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5.jpeg" ContentType="image/jpeg"/>
  <Override PartName="/ppt/media/image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043920" cy="26352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8628120" y="6539040"/>
            <a:ext cx="468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B035-3934-4AA1-9EC2-784E186C6AD9}" type="slidenum"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77760" y="-41400"/>
            <a:ext cx="312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08080"/>
                </a:solidFill>
                <a:latin typeface="나눔고딕"/>
                <a:ea typeface="나눔고딕"/>
              </a:rPr>
              <a:t>컴퓨터활용능력</a:t>
            </a:r>
            <a:r>
              <a:rPr b="1" lang="en-US" sz="1600" spc="-1" strike="noStrike">
                <a:solidFill>
                  <a:srgbClr val="808080"/>
                </a:solidFill>
                <a:latin typeface="나눔고딕"/>
                <a:ea typeface="나눔고딕"/>
              </a:rPr>
              <a:t>1</a:t>
            </a:r>
            <a:r>
              <a:rPr b="1" lang="zh-CN" sz="1600" spc="-1" strike="noStrike">
                <a:solidFill>
                  <a:srgbClr val="808080"/>
                </a:solidFill>
                <a:latin typeface="나눔고딕"/>
                <a:ea typeface="나눔고딕"/>
              </a:rPr>
              <a:t>급 필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8893080" y="0"/>
            <a:ext cx="250920" cy="26028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5838840" y="-41400"/>
            <a:ext cx="319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808080"/>
                </a:solidFill>
                <a:latin typeface="나눔고딕"/>
                <a:ea typeface="나눔고딕"/>
              </a:rPr>
              <a:t>기사퍼스트</a:t>
            </a:r>
            <a:r>
              <a:rPr b="1" lang="ko-KR" sz="1600" spc="-1" strike="noStrike">
                <a:solidFill>
                  <a:srgbClr val="808080"/>
                </a:solidFill>
                <a:latin typeface="나눔고딕"/>
                <a:ea typeface="나눔고딕"/>
              </a:rPr>
              <a:t>(www.gisafirst.com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657840" y="4076640"/>
            <a:ext cx="2270160" cy="2475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50920" y="404640"/>
            <a:ext cx="1512720" cy="700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443640" y="404640"/>
            <a:ext cx="244944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나눔고딕"/>
                <a:ea typeface="나눔고딕"/>
              </a:rPr>
              <a:t>기사퍼스트</a:t>
            </a:r>
            <a:br>
              <a:rPr sz="2800"/>
            </a:br>
            <a:r>
              <a:rPr b="1" lang="ko-KR" sz="1600" spc="-1" strike="noStrike">
                <a:solidFill>
                  <a:srgbClr val="000000"/>
                </a:solidFill>
                <a:latin typeface="나눔고딕"/>
                <a:ea typeface="나눔고딕"/>
              </a:rPr>
              <a:t>www.gisafirst.com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4282920" y="5877000"/>
            <a:ext cx="27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나눔손글씨 붓"/>
                <a:ea typeface="나눔손글씨 붓"/>
              </a:rPr>
              <a:t>강사 </a:t>
            </a:r>
            <a:r>
              <a:rPr b="1" lang="en-US" sz="4000" spc="-1" strike="noStrike">
                <a:solidFill>
                  <a:srgbClr val="000000"/>
                </a:solidFill>
                <a:latin typeface="나눔손글씨 붓"/>
                <a:ea typeface="나눔손글씨 붓"/>
              </a:rPr>
              <a:t>: </a:t>
            </a:r>
            <a:r>
              <a:rPr b="1" lang="zh-CN" sz="4000" spc="-1" strike="noStrike">
                <a:solidFill>
                  <a:srgbClr val="000000"/>
                </a:solidFill>
                <a:latin typeface="나눔손글씨 붓"/>
                <a:ea typeface="나눔손글씨 붓"/>
              </a:rPr>
              <a:t>권우석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4240" y="1268280"/>
            <a:ext cx="8893080" cy="35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나눔고딕"/>
                <a:ea typeface="나눔고딕"/>
              </a:rPr>
              <a:t>컴퓨터활용능력</a:t>
            </a:r>
            <a:r>
              <a:rPr b="1" lang="en-US" sz="5400" spc="-1" strike="noStrike">
                <a:solidFill>
                  <a:srgbClr val="000000"/>
                </a:solidFill>
                <a:latin typeface="나눔고딕"/>
                <a:ea typeface="나눔고딕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나눔고딕"/>
                <a:ea typeface="나눔고딕"/>
              </a:rPr>
              <a:t>급 필기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나눔고딕"/>
                <a:ea typeface="나눔고딕"/>
              </a:rPr>
              <a:t>[2012</a:t>
            </a:r>
            <a:r>
              <a:rPr b="1" lang="zh-CN" sz="4000" spc="-1" strike="noStrike">
                <a:solidFill>
                  <a:srgbClr val="0000ff"/>
                </a:solidFill>
                <a:latin typeface="나눔고딕"/>
                <a:ea typeface="나눔고딕"/>
              </a:rPr>
              <a:t>년 </a:t>
            </a:r>
            <a:r>
              <a:rPr b="1" lang="en-US" sz="4000" spc="-1" strike="noStrike">
                <a:solidFill>
                  <a:srgbClr val="0000ff"/>
                </a:solidFill>
                <a:latin typeface="나눔고딕"/>
                <a:ea typeface="나눔고딕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나눔고딕"/>
                <a:ea typeface="나눔고딕"/>
              </a:rPr>
              <a:t>회</a:t>
            </a:r>
            <a:r>
              <a:rPr b="1" lang="en-US" sz="4000" spc="-1" strike="noStrike">
                <a:solidFill>
                  <a:srgbClr val="0000ff"/>
                </a:solidFill>
                <a:latin typeface="나눔고딕"/>
                <a:ea typeface="나눔고딕"/>
              </a:rPr>
              <a:t>]</a:t>
            </a:r>
            <a:r>
              <a:rPr b="1" lang="en-US" sz="40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나눔고딕"/>
                <a:ea typeface="나눔고딕"/>
              </a:rPr>
              <a:t>핵심 기출문제 풀이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나눔고딕"/>
                <a:ea typeface="나눔고딕"/>
              </a:rPr>
              <a:t>- </a:t>
            </a:r>
            <a:r>
              <a:rPr b="1" lang="zh-CN" sz="4000" spc="-1" strike="noStrike">
                <a:solidFill>
                  <a:srgbClr val="ff0000"/>
                </a:solidFill>
                <a:latin typeface="나눔고딕"/>
                <a:ea typeface="나눔고딕"/>
              </a:rPr>
              <a:t>스프레드시트 일반 </a:t>
            </a:r>
            <a:r>
              <a:rPr b="1" lang="en-US" sz="4000" spc="-1" strike="noStrike">
                <a:solidFill>
                  <a:srgbClr val="ff0000"/>
                </a:solidFill>
                <a:latin typeface="나눔고딕"/>
                <a:ea typeface="나눔고딕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79280" y="29520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[2012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년 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3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회 핵심 기출문제 풀이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-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스프레드시트 일반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49400" y="765000"/>
            <a:ext cx="8893080" cy="167436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1" lang="zh-CN" sz="1600" spc="-1" strike="noStrike">
                <a:solidFill>
                  <a:srgbClr val="0000ff"/>
                </a:solidFill>
                <a:latin typeface="굴림"/>
              </a:rPr>
              <a:t>다른 문서에 대한 링크 업데이트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다른 응용프로그램을 참조하는 수식을 계산하고 새로 고친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복사본 저장 아님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굴림"/>
              </a:rPr>
              <a:t>* </a:t>
            </a:r>
            <a:r>
              <a:rPr b="1" lang="zh-CN" sz="1600" spc="-1" strike="noStrike">
                <a:solidFill>
                  <a:srgbClr val="0000ff"/>
                </a:solidFill>
                <a:latin typeface="굴림"/>
              </a:rPr>
              <a:t>연결</a:t>
            </a:r>
            <a:r>
              <a:rPr b="1" lang="en-US" sz="16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1" lang="zh-CN" sz="1600" spc="-1" strike="noStrike">
                <a:solidFill>
                  <a:srgbClr val="0000ff"/>
                </a:solidFill>
                <a:latin typeface="굴림"/>
              </a:rPr>
              <a:t>링크</a:t>
            </a:r>
            <a:r>
              <a:rPr b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: Book1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통합문서에서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=A1+[Book2]Sheet1!$A$1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수식을 만들어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Book2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통합문서를 참조하여 </a:t>
            </a:r>
            <a:r>
              <a:rPr b="1" lang="zh-CN" sz="1600" spc="-1" strike="noStrike">
                <a:solidFill>
                  <a:srgbClr val="0000ff"/>
                </a:solidFill>
                <a:latin typeface="굴림"/>
              </a:rPr>
              <a:t>연결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할 경우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[Book2]Sheet1!$A$1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값이 수정되면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Book1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통합문서는 갱신된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08000" y="620640"/>
            <a:ext cx="8950320" cy="38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▶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아래 시트에서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[D1]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셀을 선택한 상태에서 수식 입력줄의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(B1+C1)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을 선택하고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[F9]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키를 누르면 나타나는 현상에 대한 설명으로 옳은 것은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①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선택된 수식이 계산되어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500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이 표시된다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선택된 해당 셀의 값이 표기되어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(200+300)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이 표시된다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수식 입력줄의 모든 수식이 계산되어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400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이 표시된다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수식 입력줄의 셀의 값이 표기되어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(200+300)-100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이 표시된다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179280" y="29520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[2012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년 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3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회 핵심 기출문제 풀이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-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스프레드시트 일반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149400" y="4724280"/>
            <a:ext cx="8893080" cy="167436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* (B1+C1)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을 선택하고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[F9]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키를 누르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_x32548968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4176720" cy="15015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95280" y="5157720"/>
            <a:ext cx="4897440" cy="11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8000" y="620640"/>
            <a:ext cx="8950320" cy="35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▶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아래 시트와 같이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[A1:A4]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영역의 텍스트를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[C1:D4]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영역으로 나누기를 실행하려고 한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다음 중 텍스트 나누기를 실행하기 위한 작업 과정으로 옳지 않은 것은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텍스트 마법사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단계 중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단계에서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너비가 일정함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을 선택한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굴림"/>
              </a:rPr>
              <a:t>② </a:t>
            </a:r>
            <a:r>
              <a:rPr b="1" lang="zh-CN" sz="1600" spc="-1" strike="noStrike" u="sng">
                <a:solidFill>
                  <a:srgbClr val="000000"/>
                </a:solidFill>
                <a:uFillTx/>
                <a:latin typeface="굴림"/>
              </a:rPr>
              <a:t>텍스트 마법사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굴림"/>
              </a:rPr>
              <a:t>3</a:t>
            </a:r>
            <a:r>
              <a:rPr b="1" lang="zh-CN" sz="1600" spc="-1" strike="noStrike" u="sng">
                <a:solidFill>
                  <a:srgbClr val="000000"/>
                </a:solidFill>
                <a:uFillTx/>
                <a:latin typeface="굴림"/>
              </a:rPr>
              <a:t>단계 중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굴림"/>
              </a:rPr>
              <a:t>2</a:t>
            </a:r>
            <a:r>
              <a:rPr b="1" lang="zh-CN" sz="1600" spc="-1" strike="noStrike" u="sng">
                <a:solidFill>
                  <a:srgbClr val="000000"/>
                </a:solidFill>
                <a:uFillTx/>
                <a:latin typeface="굴림"/>
              </a:rPr>
              <a:t>단계에서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굴림"/>
              </a:rPr>
              <a:t>'</a:t>
            </a:r>
            <a:r>
              <a:rPr b="1" lang="zh-CN" sz="1600" spc="-1" strike="noStrike" u="sng">
                <a:solidFill>
                  <a:srgbClr val="000000"/>
                </a:solidFill>
                <a:uFillTx/>
                <a:latin typeface="굴림"/>
              </a:rPr>
              <a:t>구분 기호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굴림"/>
              </a:rPr>
              <a:t>'</a:t>
            </a:r>
            <a:r>
              <a:rPr b="1" lang="zh-CN" sz="1600" spc="-1" strike="noStrike" u="sng">
                <a:solidFill>
                  <a:srgbClr val="000000"/>
                </a:solidFill>
                <a:uFillTx/>
                <a:latin typeface="굴림"/>
              </a:rPr>
              <a:t>중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굴림"/>
              </a:rPr>
              <a:t>'</a:t>
            </a:r>
            <a:r>
              <a:rPr b="1" lang="zh-CN" sz="1600" spc="-1" strike="noStrike" u="sng">
                <a:solidFill>
                  <a:srgbClr val="000000"/>
                </a:solidFill>
                <a:uFillTx/>
                <a:latin typeface="굴림"/>
              </a:rPr>
              <a:t>탭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굴림"/>
              </a:rPr>
              <a:t>'</a:t>
            </a:r>
            <a:r>
              <a:rPr b="1" lang="zh-CN" sz="1600" spc="-1" strike="noStrike" u="sng">
                <a:solidFill>
                  <a:srgbClr val="000000"/>
                </a:solidFill>
                <a:uFillTx/>
                <a:latin typeface="굴림"/>
              </a:rPr>
              <a:t>을 선택한다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필드의 너비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열 구분선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을 지정하기 위해 첫 글자 다음 위치에 마우스로 클릭한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텍스트 마법사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단계 중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단계에서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대상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'=$C$1'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>
            <a:off x="179280" y="29520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[2012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년 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3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회 핵심 기출문제 풀이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-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스프레드시트 일반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149400" y="4437000"/>
            <a:ext cx="8893080" cy="167436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굴림"/>
              </a:rPr>
              <a:t>* [</a:t>
            </a:r>
            <a:r>
              <a:rPr b="1" lang="zh-CN" sz="1600" spc="-1" strike="noStrike">
                <a:solidFill>
                  <a:srgbClr val="0000ff"/>
                </a:solidFill>
                <a:latin typeface="굴림"/>
              </a:rPr>
              <a:t>데이터</a:t>
            </a:r>
            <a:r>
              <a:rPr b="1" lang="en-US" sz="1600" spc="-1" strike="noStrike">
                <a:solidFill>
                  <a:srgbClr val="0000ff"/>
                </a:solidFill>
                <a:latin typeface="굴림"/>
              </a:rPr>
              <a:t>]-[</a:t>
            </a:r>
            <a:r>
              <a:rPr b="1" lang="zh-CN" sz="1600" spc="-1" strike="noStrike">
                <a:solidFill>
                  <a:srgbClr val="0000ff"/>
                </a:solidFill>
                <a:latin typeface="굴림"/>
              </a:rPr>
              <a:t>데이터 도구</a:t>
            </a:r>
            <a:r>
              <a:rPr b="1" lang="en-US" sz="1600" spc="-1" strike="noStrike">
                <a:solidFill>
                  <a:srgbClr val="0000ff"/>
                </a:solidFill>
                <a:latin typeface="굴림"/>
              </a:rPr>
              <a:t>]-</a:t>
            </a:r>
            <a:r>
              <a:rPr b="1" lang="zh-CN" sz="1600" spc="-1" strike="noStrike">
                <a:solidFill>
                  <a:srgbClr val="0000ff"/>
                </a:solidFill>
                <a:latin typeface="굴림"/>
              </a:rPr>
              <a:t>텍스트 나누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단계에서 ‘너비가 일정함’ 선택하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단계에서는 너비를 지정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8" name="_x33745232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4608360" cy="14094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427640" y="4475160"/>
            <a:ext cx="367344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79280" y="29520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[2012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년 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3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회 핵심 기출문제 풀이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-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스프레드시트 일반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>
            <a:off x="149400" y="836640"/>
            <a:ext cx="8893080" cy="444636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465440" cy="4194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932360" y="981000"/>
            <a:ext cx="3600360" cy="25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08000" y="620640"/>
            <a:ext cx="8950320" cy="26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▶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다음은 엑셀의 차트 기능을 설명한 것이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 ⓐ ~ ⓒ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에 들어갈 내용을 순서대로 나열한 것은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굴림"/>
              </a:rPr>
              <a:t>①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굴림"/>
              </a:rPr>
              <a:t>[F11] → </a:t>
            </a:r>
            <a:r>
              <a:rPr b="1" lang="zh-CN" sz="1600" spc="-1" strike="noStrike" u="sng">
                <a:solidFill>
                  <a:srgbClr val="000000"/>
                </a:solidFill>
                <a:uFillTx/>
                <a:latin typeface="굴림"/>
              </a:rPr>
              <a:t>새로운 차트 시트 → 묶은 세로 막대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[F11] →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현재 통합문서에 있는 워크시트 → 묶은 가로 막대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[F8] →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새로운 차트 시트 → 묶은 가로 막대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[F8] →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현재 통합문서에 있는 워크시트 → 묶은 가로 막대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29520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[2012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년 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3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회 핵심 기출문제 풀이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-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스프레드시트 일반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149400" y="5564160"/>
            <a:ext cx="8893080" cy="72756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굴림"/>
              </a:rPr>
              <a:t>* </a:t>
            </a:r>
            <a:r>
              <a:rPr b="1" lang="en-US" sz="3200" spc="-1" strike="noStrike">
                <a:solidFill>
                  <a:srgbClr val="0000ff"/>
                </a:solidFill>
                <a:latin typeface="굴림"/>
              </a:rPr>
              <a:t>F11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차트 자동 완성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묶은 세로 막대형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313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16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44360" y="1125360"/>
          <a:ext cx="8820000" cy="579240"/>
        </p:xfrm>
        <a:graphic>
          <a:graphicData uri="http://schemas.openxmlformats.org/drawingml/2006/table">
            <a:tbl>
              <a:tblPr/>
              <a:tblGrid>
                <a:gridCol w="882000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차트를 작성하기 위해서는 원본 데이터를 선택한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 ⓐ )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키를 누르면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 ⓑ )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자동으로 차트가 생성되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별도로 설정하지 않았을 경우 기본 차트는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 ⓒ )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차트이다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08000" y="620640"/>
            <a:ext cx="895032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▶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다음 시트에서 자격증 응시자에 대한 과목별 평균을 구하려고 할 때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[C11]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셀에 입력할 배열 수식으로 옳은 것은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179280" y="29520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[2012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년 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3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회 핵심 기출문제 풀이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-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스프레드시트 일반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49400" y="4724280"/>
            <a:ext cx="8893080" cy="162936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13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16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64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0" name="_x33745352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2728800" cy="31683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211920" y="1414800"/>
            <a:ext cx="5002920" cy="13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{=AVERAGE(IF(MOD(ROW(C3:C8),2)=0,C3:C8)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굴림"/>
              </a:rPr>
              <a:t>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굴림"/>
              </a:rPr>
              <a:t>{=AVERAGE(IF(MOD(ROW(C3:C8),2)=1,C3:C8)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{=AVERAGE(IF(MOD(ROWS(C3:C8),2)=0,C3:C8)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{=AVERAGE(IF(MOD(ROWS(C3:C8),2)=1,C3:C8)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95280" y="4869000"/>
          <a:ext cx="4114800" cy="1295280"/>
        </p:xfrm>
        <a:graphic>
          <a:graphicData uri="http://schemas.openxmlformats.org/drawingml/2006/table">
            <a:tbl>
              <a:tblPr/>
              <a:tblGrid>
                <a:gridCol w="2135160"/>
                <a:gridCol w="1979640"/>
              </a:tblGrid>
              <a:tr h="38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함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굴림"/>
                        </a:rPr>
                        <a:t>Row(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굴림"/>
                        </a:rPr>
                        <a:t>셀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굴림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셀의 행 번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굴림"/>
                        </a:rPr>
                        <a:t>Row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굴림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굴림"/>
                        </a:rPr>
                        <a:t>범위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굴림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셀 범위의 행 개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4643280" y="4869000"/>
          <a:ext cx="4114800" cy="1295280"/>
        </p:xfrm>
        <a:graphic>
          <a:graphicData uri="http://schemas.openxmlformats.org/drawingml/2006/table">
            <a:tbl>
              <a:tblPr/>
              <a:tblGrid>
                <a:gridCol w="2135520"/>
                <a:gridCol w="1979280"/>
              </a:tblGrid>
              <a:tr h="38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함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굴림"/>
                        </a:rPr>
                        <a:t>Column(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굴림"/>
                        </a:rPr>
                        <a:t>셀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굴림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셀의 열 번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굴림"/>
                        </a:rPr>
                        <a:t>Column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굴림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굴림"/>
                        </a:rPr>
                        <a:t>범위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굴림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셀 범위의 열 개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79280" y="29520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[2012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년 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3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회 핵심 기출문제 풀이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-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스프레드시트 일반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>
            <a:off x="149400" y="765000"/>
            <a:ext cx="8893080" cy="534960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{=AVERAGE(IF(MOD(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굴림"/>
              </a:rPr>
              <a:t>ROW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굴림"/>
              </a:rPr>
              <a:t>(C3:C8)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2)=1,C3:C8))}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과목의 평균을 구하는 문제이므로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C3,C5,C7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값의 평균을 구하면 됨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* ① {=AVERAGE(IF(MOD(ROW(C3:C8),2)=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굴림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,C3:C8))}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 2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과목 평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4179600" y="2924280"/>
            <a:ext cx="116532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3,4,5,6,7,8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2916360" y="3357720"/>
            <a:ext cx="33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324000" y="907920"/>
          <a:ext cx="3240000" cy="839880"/>
        </p:xfrm>
        <a:graphic>
          <a:graphicData uri="http://schemas.openxmlformats.org/drawingml/2006/table">
            <a:tbl>
              <a:tblPr/>
              <a:tblGrid>
                <a:gridCol w="2282400"/>
                <a:gridCol w="957600"/>
              </a:tblGrid>
              <a:tr h="38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함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0000"/>
                          </a:solidFill>
                          <a:latin typeface="굴림"/>
                        </a:rPr>
                        <a:t>Mod(</a:t>
                      </a:r>
                      <a:r>
                        <a:rPr b="1" lang="ko-KR" sz="2000" spc="-1" strike="noStrike">
                          <a:solidFill>
                            <a:srgbClr val="0000ff"/>
                          </a:solidFill>
                          <a:latin typeface="굴림"/>
                        </a:rPr>
                        <a:t>피젯수</a:t>
                      </a:r>
                      <a:r>
                        <a:rPr b="1" lang="ko-KR" sz="2000" spc="-1" strike="noStrike">
                          <a:solidFill>
                            <a:srgbClr val="0000ff"/>
                          </a:solidFill>
                          <a:latin typeface="굴림"/>
                        </a:rPr>
                        <a:t>,</a:t>
                      </a:r>
                      <a:r>
                        <a:rPr b="1" lang="ko-KR" sz="2000" spc="-1" strike="noStrike">
                          <a:solidFill>
                            <a:srgbClr val="0000ff"/>
                          </a:solidFill>
                          <a:latin typeface="굴림"/>
                        </a:rPr>
                        <a:t>젯수</a:t>
                      </a:r>
                      <a:r>
                        <a:rPr b="1" lang="ko-KR" sz="2000" spc="-1" strike="noStrike">
                          <a:solidFill>
                            <a:srgbClr val="ff0000"/>
                          </a:solidFill>
                          <a:latin typeface="굴림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머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"/>
          <p:cNvSpPr/>
          <p:nvPr/>
        </p:nvSpPr>
        <p:spPr>
          <a:xfrm>
            <a:off x="1227240" y="1819440"/>
            <a:ext cx="60192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MOD (</a:t>
            </a:r>
            <a:r>
              <a:rPr b="1" lang="zh-CN" sz="1600" spc="-1" strike="noStrike">
                <a:solidFill>
                  <a:srgbClr val="0000ff"/>
                </a:solidFill>
                <a:latin typeface="굴림"/>
              </a:rPr>
              <a:t>나머지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 구하기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) :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홀수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짝수를 구분할 때 사용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(2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로 나눠서 나머지가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이면 홀수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>
            <a:off x="4014720" y="3284640"/>
            <a:ext cx="116532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,0,1,0,1,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3789360"/>
            <a:ext cx="547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4014360" y="3789360"/>
            <a:ext cx="26420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결과적으로 행 번호가 홀수일때 평균값 계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08000" y="620640"/>
            <a:ext cx="895032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▶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다음 중 입력자료에 지정된 표시 형식에 따른 결과로 옳은 것은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179280" y="29520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[2012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년 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3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회 핵심 기출문제 풀이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-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스프레드시트 일반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149400" y="3514680"/>
            <a:ext cx="8893080" cy="318204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3384360" cy="21733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3924360" y="1100160"/>
            <a:ext cx="3384360" cy="214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8" name=""/>
          <p:cNvGraphicFramePr/>
          <p:nvPr/>
        </p:nvGraphicFramePr>
        <p:xfrm>
          <a:off x="684360" y="3659040"/>
          <a:ext cx="8208720" cy="1495440"/>
        </p:xfrm>
        <a:graphic>
          <a:graphicData uri="http://schemas.openxmlformats.org/drawingml/2006/table">
            <a:tbl>
              <a:tblPr/>
              <a:tblGrid>
                <a:gridCol w="1079280"/>
                <a:gridCol w="2016360"/>
                <a:gridCol w="51130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코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설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굴림"/>
                        </a:rPr>
                        <a:t>@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대로 표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@ :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컴활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컴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@@ :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컴활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컴활컴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 u="sng">
                          <a:solidFill>
                            <a:srgbClr val="000000"/>
                          </a:solidFill>
                          <a:uFillTx/>
                          <a:latin typeface="굴림"/>
                        </a:rPr>
                        <a:t>@@@ : </a:t>
                      </a:r>
                      <a:r>
                        <a:rPr b="1" lang="ko-KR" sz="1600" spc="-1" strike="noStrike" u="sng">
                          <a:solidFill>
                            <a:srgbClr val="000000"/>
                          </a:solidFill>
                          <a:uFillTx/>
                          <a:latin typeface="굴림"/>
                        </a:rPr>
                        <a:t>컴활 </a:t>
                      </a:r>
                      <a:r>
                        <a:rPr b="1" lang="ko-KR" sz="1600" spc="-1" strike="noStrike" u="sng">
                          <a:solidFill>
                            <a:srgbClr val="000000"/>
                          </a:solidFill>
                          <a:uFillTx/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ko-KR" sz="1600" spc="-1" strike="noStrike" u="sng">
                          <a:solidFill>
                            <a:srgbClr val="000000"/>
                          </a:solidFill>
                          <a:uFillTx/>
                          <a:latin typeface="굴림"/>
                        </a:rPr>
                        <a:t> 컴활컴활컴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@”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활용능력”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컴퓨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컴퓨터활용능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161640" y="3573360"/>
            <a:ext cx="35280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38640" y="5229360"/>
            <a:ext cx="207828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숫자 단위 자동으로 표시하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684360" y="5661000"/>
            <a:ext cx="6551640" cy="10018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003640" y="5203800"/>
            <a:ext cx="27194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* #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은 유효 자릿수 코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79280" y="29520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[2012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년 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3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회 핵심 기출문제 풀이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-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스프레드시트 일반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149400" y="765000"/>
            <a:ext cx="8893080" cy="571068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50920" y="1631880"/>
          <a:ext cx="8642160" cy="963720"/>
        </p:xfrm>
        <a:graphic>
          <a:graphicData uri="http://schemas.openxmlformats.org/drawingml/2006/table">
            <a:tbl>
              <a:tblPr/>
              <a:tblGrid>
                <a:gridCol w="865080"/>
                <a:gridCol w="2664000"/>
                <a:gridCol w="51130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코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설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굴림"/>
                        </a:rPr>
                        <a:t>0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곱하고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%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붙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0% : 0.5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0.0% : </a:t>
                      </a: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굴림"/>
                        </a:rPr>
                        <a:t>0.5 </a:t>
                      </a: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굴림"/>
                        </a:rPr>
                        <a:t> 5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1092240" y="824040"/>
            <a:ext cx="423216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이하 숫자를 백분율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소수점 한 자리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로 표시하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주의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실습할 때 </a:t>
            </a:r>
            <a:r>
              <a:rPr b="1" lang="zh-CN" sz="1600" spc="-1" strike="noStrike" u="sng">
                <a:solidFill>
                  <a:srgbClr val="000000"/>
                </a:solidFill>
                <a:uFillTx/>
                <a:latin typeface="굴림"/>
              </a:rPr>
              <a:t>값을 먼저 입력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한 후에 표시형식을 설정하세요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1025280" y="2789280"/>
            <a:ext cx="4754880" cy="25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* G/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특별한 서식이 없는 기본 서식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입력한 모양대로 보여짐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굴림"/>
              </a:rPr>
              <a:t>‘</a:t>
            </a:r>
            <a:r>
              <a:rPr b="1" lang="zh-CN" sz="1600" spc="-1" strike="noStrike" u="sng">
                <a:solidFill>
                  <a:srgbClr val="0000ff"/>
                </a:solidFill>
                <a:uFillTx/>
                <a:latin typeface="굴림"/>
              </a:rPr>
              <a:t>사용자 지정 숫자 서식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’ 의 </a:t>
            </a:r>
            <a:r>
              <a:rPr b="1" lang="zh-CN" sz="1600" spc="-1" strike="noStrike" u="sng">
                <a:solidFill>
                  <a:srgbClr val="000000"/>
                </a:solidFill>
                <a:uFillTx/>
                <a:latin typeface="굴림"/>
              </a:rPr>
              <a:t>기본 구문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은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4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가지로 값의 범위를 구분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양수 서식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;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음수 서식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; 0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서식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;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텍스트 서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- ex) #,### ; -#,### ; 0 ; @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조건에 맞는 값에만 서식을 적용할 수도 있음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[&lt;=1]0.0%;G/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표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④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611280" y="5084640"/>
          <a:ext cx="8353440" cy="1298520"/>
        </p:xfrm>
        <a:graphic>
          <a:graphicData uri="http://schemas.openxmlformats.org/drawingml/2006/table">
            <a:tbl>
              <a:tblPr/>
              <a:tblGrid>
                <a:gridCol w="1657080"/>
                <a:gridCol w="1872000"/>
                <a:gridCol w="1511280"/>
                <a:gridCol w="331308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데이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표시형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용자 지정 형식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적용 결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설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07-12-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ff"/>
                          </a:solidFill>
                          <a:latin typeface="굴림"/>
                        </a:rPr>
                        <a:t>mmmm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d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굴림"/>
                        </a:rPr>
                        <a:t>December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mmm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은 월을 영문으로 표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12-03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ff"/>
                          </a:solidFill>
                          <a:latin typeface="굴림"/>
                        </a:rPr>
                        <a:t>mmm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d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굴림"/>
                        </a:rPr>
                        <a:t>Mar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mm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은 월을 영문 약어로 표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08000" y="620640"/>
            <a:ext cx="8950320" cy="35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▶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다음 프로시저에 대한 설명으로 옳지 않은 것은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179280" y="29520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[2012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년 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3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회 핵심 기출문제 풀이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-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스프레드시트 일반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149400" y="3789360"/>
            <a:ext cx="8893080" cy="262260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지역 변수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Local Variable)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전역 변수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(Global Variable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이해하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지역 변수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선언된 프로시저에서만 유효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프로시저 수준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전역 변수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모듈의 처음에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Dim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선언되고 모듈 안의 모든 프로시저에서 사용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모듈 수준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Dim strMsg As String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구문을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Sub LocalVariable(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위에 선언하면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④은 맞는 답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270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95280" y="1125360"/>
          <a:ext cx="3672000" cy="2291040"/>
        </p:xfrm>
        <a:graphic>
          <a:graphicData uri="http://schemas.openxmlformats.org/drawingml/2006/table">
            <a:tbl>
              <a:tblPr/>
              <a:tblGrid>
                <a:gridCol w="3672000"/>
              </a:tblGrid>
              <a:tr h="229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ub LocalVariable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m strMsg As St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rMsg = "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작업이 완료되었습니다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sgBox strMs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End Su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ub OutsideScopo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sgBox strMs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End Su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4176720" y="1012680"/>
            <a:ext cx="4572000" cy="26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strMsg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를 문자열 변수로 선언하였다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변수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strMsg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에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"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작업이 완료되었습니다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"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라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문자열을 대입시킨다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변수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strMsg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내용을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MsgBox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를 이용해 대화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자에 표시한다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④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OutsideScopo()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에도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LocalVariable()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에서 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 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언된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strMsg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변수가 적용되어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MsgBox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를 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 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해 대화상자에 표시한다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468360" y="5373720"/>
          <a:ext cx="3672000" cy="863640"/>
        </p:xfrm>
        <a:graphic>
          <a:graphicData uri="http://schemas.openxmlformats.org/drawingml/2006/table">
            <a:tbl>
              <a:tblPr/>
              <a:tblGrid>
                <a:gridCol w="367200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m strMsg As St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rMsg = "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작업이 완료되었습니다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sgBox strMs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"/>
          <p:cNvSpPr/>
          <p:nvPr/>
        </p:nvSpPr>
        <p:spPr>
          <a:xfrm>
            <a:off x="4680000" y="5575320"/>
            <a:ext cx="348876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같은 결과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: MsgBox ("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작업이 완료되었습니다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"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8000" y="620640"/>
            <a:ext cx="895032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▶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아래 시트에서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[A1:B5]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[D1:D5]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를 데이터 원본으로 하여 차트를 작성하려고 할 때 가장 적합한 종류는 어느 것인가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29520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[2012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년 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3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회 핵심 기출문제 풀이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-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스프레드시트 일반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74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9" name="_x33033672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3168720" cy="2032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564000" y="1271520"/>
            <a:ext cx="4916520" cy="19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기본 축만 있는 세로 막대형과 꺽은선형 차트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사용한 혼합형 차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기본 축만 있는 방사형 차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원형 대 가로 막대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④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기본 축과 보조 축이 있는 세로 막대형과 꺽은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 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형 차트를 사용한 혼합형 차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995640" y="3983040"/>
            <a:ext cx="4400640" cy="2571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50920" y="3756960"/>
            <a:ext cx="8713800" cy="301356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1" lang="ko-KR" sz="1600" spc="-1" strike="noStrike" u="sng">
                <a:solidFill>
                  <a:srgbClr val="0000ff"/>
                </a:solidFill>
                <a:uFillTx/>
                <a:latin typeface="굴림"/>
              </a:rPr>
              <a:t>이중 축 차트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기본 축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이 지정된 상태에서 또 하나의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보조 축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을 추가하여 두 개의 축으로 값을 표시하는 차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꺽은선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세로 막대형으로 </a:t>
            </a:r>
            <a:r>
              <a:rPr b="1" lang="ko-KR" sz="1600" spc="-1" strike="noStrike" u="sng">
                <a:solidFill>
                  <a:srgbClr val="0000ff"/>
                </a:solidFill>
                <a:uFillTx/>
                <a:latin typeface="굴림"/>
              </a:rPr>
              <a:t>혼합형 차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만들면 쉽게 구분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994200" y="3957480"/>
            <a:ext cx="360360" cy="237672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7236000" y="3957480"/>
            <a:ext cx="360360" cy="237672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3178080" y="6118200"/>
            <a:ext cx="5464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굴림"/>
              </a:rPr>
              <a:t>기본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7859520" y="6118200"/>
            <a:ext cx="5464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ff"/>
                </a:solidFill>
                <a:latin typeface="굴림"/>
              </a:rPr>
              <a:t>보조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9280" y="29520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[2012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년 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3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회 핵심 기출문제 풀이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-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스프레드시트 일반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93680" y="620640"/>
            <a:ext cx="86774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[09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년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회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아래 표에서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[A1:B5]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[E1:E5]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를 원본으로 하여 차트를 그리고자 한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다음 중 가장 적합한 차트의 종류는 어느 것인가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3490560"/>
            <a:ext cx="8713800" cy="301356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이중 축 차트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zh-CN" sz="1600" spc="-1" strike="noStrike" u="sng">
                <a:solidFill>
                  <a:srgbClr val="000000"/>
                </a:solidFill>
                <a:uFillTx/>
                <a:latin typeface="굴림"/>
              </a:rPr>
              <a:t>기본 축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이 지정된 상태에서 또 하나의 </a:t>
            </a:r>
            <a:r>
              <a:rPr b="1" lang="zh-CN" sz="1600" spc="-1" strike="noStrike" u="sng">
                <a:solidFill>
                  <a:srgbClr val="000000"/>
                </a:solidFill>
                <a:uFillTx/>
                <a:latin typeface="굴림"/>
              </a:rPr>
              <a:t>보조 축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을 추가하여 두 개의 축으로 값을 표시하는 차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_x34503784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4176720" cy="1293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399280" y="1559880"/>
            <a:ext cx="228024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①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이중 축 혼합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블럭 영영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혼합형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꺽은선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세로 막대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혼합형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세로 막대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영역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211640" y="3741840"/>
            <a:ext cx="4505400" cy="27115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211640" y="3741840"/>
            <a:ext cx="360360" cy="237636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7596360" y="3741840"/>
            <a:ext cx="360360" cy="237636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395520" y="5902200"/>
            <a:ext cx="5464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굴림"/>
              </a:rPr>
              <a:t>기본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8219880" y="5902200"/>
            <a:ext cx="5464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ff"/>
                </a:solidFill>
                <a:latin typeface="굴림"/>
              </a:rPr>
              <a:t>보조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986760" y="4394160"/>
            <a:ext cx="2350800" cy="104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굴림"/>
              </a:rPr>
              <a:t>실습해야만 응용된 문제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굴림"/>
              </a:rPr>
              <a:t>풀 수 있습니다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8000" y="620640"/>
            <a:ext cx="895032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▶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'=A20*B21'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이나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'...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입니까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?'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와 같이 곱셈 수식이나 의문문을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*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?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의 기호를 이용하여 검색하고자 할 때 아래 그림의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찾을 내용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]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에 입력해야 할 올바른 방법은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79280" y="29520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[2012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년 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3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회 핵심 기출문제 풀이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-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스프레드시트 일반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49400" y="4444920"/>
            <a:ext cx="8893080" cy="159660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ff"/>
                </a:solidFill>
                <a:latin typeface="굴림"/>
              </a:rPr>
              <a:t>* </a:t>
            </a:r>
            <a:r>
              <a:rPr b="1" lang="ko-KR" sz="1600" spc="-1" strike="noStrike">
                <a:solidFill>
                  <a:srgbClr val="0000ff"/>
                </a:solidFill>
                <a:latin typeface="굴림"/>
              </a:rPr>
              <a:t>와일드 카드 </a:t>
            </a:r>
            <a:r>
              <a:rPr b="1" lang="ko-KR" sz="1600" spc="-1" strike="noStrike">
                <a:solidFill>
                  <a:srgbClr val="0000ff"/>
                </a:solidFill>
                <a:latin typeface="굴림"/>
              </a:rPr>
              <a:t>(?, *)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문자를 대신하는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만능 문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김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?: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김으로 시작하는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자이상의 문자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주의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600" spc="-1" strike="noStrike" u="sng">
                <a:solidFill>
                  <a:srgbClr val="0000ff"/>
                </a:solidFill>
                <a:uFillTx/>
                <a:latin typeface="굴림"/>
              </a:rPr>
              <a:t>전체 셀 내용 일치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체크하면 김으로 시작하는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2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자 문자만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검색됨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김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*: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김으로 시작하는 문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ff"/>
                </a:solidFill>
                <a:latin typeface="굴림"/>
              </a:rPr>
              <a:t>* ?, * </a:t>
            </a:r>
            <a:r>
              <a:rPr b="1" lang="ko-KR" sz="1600" spc="-1" strike="noStrike">
                <a:solidFill>
                  <a:srgbClr val="0000ff"/>
                </a:solidFill>
                <a:latin typeface="굴림"/>
              </a:rPr>
              <a:t>찾기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: ~?, ~*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처럼 </a:t>
            </a:r>
            <a:r>
              <a:rPr b="1" lang="ko-KR" sz="2800" spc="-1" strike="noStrike" u="sng">
                <a:solidFill>
                  <a:srgbClr val="0000ff"/>
                </a:solidFill>
                <a:uFillTx/>
                <a:latin typeface="굴림"/>
              </a:rPr>
              <a:t>~ </a:t>
            </a:r>
            <a:r>
              <a:rPr b="1" lang="ko-KR" sz="2800" spc="-1" strike="noStrike" u="sng">
                <a:solidFill>
                  <a:srgbClr val="0000ff"/>
                </a:solidFill>
                <a:uFillTx/>
                <a:latin typeface="굴림"/>
              </a:rPr>
              <a:t>기호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뒤에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?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혹은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*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붙여야 함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74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005440" y="1486080"/>
            <a:ext cx="3887640" cy="13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의 기호 뒤에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혹은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?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를 붙인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굴림"/>
              </a:rPr>
              <a:t>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굴림"/>
              </a:rPr>
              <a:t>~ </a:t>
            </a:r>
            <a:r>
              <a:rPr b="1" lang="zh-CN" sz="1600" spc="-1" strike="noStrike" u="sng">
                <a:solidFill>
                  <a:srgbClr val="000000"/>
                </a:solidFill>
                <a:uFillTx/>
                <a:latin typeface="굴림"/>
              </a:rPr>
              <a:t>의 기호 뒤에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굴림"/>
              </a:rPr>
              <a:t>* </a:t>
            </a:r>
            <a:r>
              <a:rPr b="1" lang="zh-CN" sz="1600" spc="-1" strike="noStrike" u="sng">
                <a:solidFill>
                  <a:srgbClr val="000000"/>
                </a:solidFill>
                <a:uFillTx/>
                <a:latin typeface="굴림"/>
              </a:rPr>
              <a:t>혹은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굴림"/>
              </a:rPr>
              <a:t>?</a:t>
            </a:r>
            <a:r>
              <a:rPr b="1" lang="zh-CN" sz="1600" spc="-1" strike="noStrike" u="sng">
                <a:solidFill>
                  <a:srgbClr val="000000"/>
                </a:solidFill>
                <a:uFillTx/>
                <a:latin typeface="굴림"/>
              </a:rPr>
              <a:t>를 붙인다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"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의 기호 뒤에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혹은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?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를 붙인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혹은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?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기호만 입력한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62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_x32246456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7530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8000" y="620640"/>
            <a:ext cx="895032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▶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다음 중 매크로를 작성하고 사용하는 방법에 대한 설명으로 옳지 않은 것은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①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[Ctrl]+[Shift]+[F8]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을 눌러 매크로를 실행할 수도 있으며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, [Esc]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키를 눌러 매크로 실행을 중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 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단할 수 있다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매크로를 시작하는 위치에 상관없이 항상 정해진 위치에서 시작하려면 절대참조를 사용해야 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다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기록된 매크로는 바로 가기 키를 지정할 수 있으며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엑셀 고유의 바로 가기 키와 중복될 경우 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크로에 지정된 바로 가기 키가 우선한다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매크로 이름을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Auto_Open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으로 지정하면 기록된 매크로가 파일을 열 때마다 자동으로 실행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다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29520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[2012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년 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3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회 핵심 기출문제 풀이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-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스프레드시트 일반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149400" y="3632040"/>
            <a:ext cx="8893080" cy="293868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ff"/>
                </a:solidFill>
                <a:latin typeface="굴림"/>
              </a:rPr>
              <a:t>* </a:t>
            </a:r>
            <a:r>
              <a:rPr b="1" lang="ko-KR" sz="1600" spc="-1" strike="noStrike" u="sng">
                <a:solidFill>
                  <a:srgbClr val="0000ff"/>
                </a:solidFill>
                <a:uFillTx/>
                <a:latin typeface="굴림"/>
              </a:rPr>
              <a:t>매크로 실행</a:t>
            </a:r>
            <a:r>
              <a:rPr b="1" lang="ko-KR" sz="1600" spc="-1" strike="noStrike">
                <a:solidFill>
                  <a:srgbClr val="0000ff"/>
                </a:solidFill>
                <a:latin typeface="굴림"/>
              </a:rPr>
              <a:t> 방법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개발 도구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]-[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코드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]-[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매크로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]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실행할 매크로 선택하고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실행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]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클릭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바로가기 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매크로 대화상자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(Alt + F8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74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62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17800" y="3716280"/>
            <a:ext cx="518508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08000" y="620640"/>
            <a:ext cx="895032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▶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다음 프로시저는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[C1:C20]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영역에 있는 절대 값이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0.5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보다 작은 숫자를 모두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0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으로 설정한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 ⓐ ~ ⓓ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부분에 입력할 내용을 순서대로 바르게 나열한 것은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179280" y="29520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[2012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년 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3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회 핵심 기출문제 풀이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-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스프레드시트 일반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149400" y="3213000"/>
            <a:ext cx="8893080" cy="325476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1" lang="ko-KR" sz="1600" spc="-1" strike="noStrike" u="sng">
                <a:solidFill>
                  <a:srgbClr val="0000ff"/>
                </a:solidFill>
                <a:uFillTx/>
                <a:latin typeface="굴림"/>
              </a:rPr>
              <a:t>Set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curCell = Worksheets("Sheet1").Cells(Counter, 3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Set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문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변수에 개체를 참조하도록 할당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단순히 숫자나 문자를 저장하는 변수가 아니라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개체 변수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를 만드는 명령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셀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주소로 선택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: Range(“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셀주소”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Range(“C1:C20”) : [C1:C20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번호로 선택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600" spc="-1" strike="noStrike">
                <a:solidFill>
                  <a:srgbClr val="0000ff"/>
                </a:solidFill>
                <a:latin typeface="굴림"/>
              </a:rPr>
              <a:t>Cells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행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열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Cells(1, 3)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[C1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1" lang="ko-KR" sz="1600" spc="-1" strike="noStrike" u="sng">
                <a:solidFill>
                  <a:srgbClr val="0000ff"/>
                </a:solidFill>
                <a:uFillTx/>
                <a:latin typeface="굴림"/>
              </a:rPr>
              <a:t>If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굴림"/>
              </a:rPr>
              <a:t>Abs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(curCell.Value) &lt; 0.5 </a:t>
            </a:r>
            <a:r>
              <a:rPr b="1" lang="ko-KR" sz="1600" spc="-1" strike="noStrike" u="sng">
                <a:solidFill>
                  <a:srgbClr val="0000ff"/>
                </a:solidFill>
                <a:uFillTx/>
                <a:latin typeface="굴림"/>
              </a:rPr>
              <a:t>Then</a:t>
            </a:r>
            <a:r>
              <a:rPr b="1" lang="ko-KR" sz="1600" spc="-1" strike="noStrike">
                <a:solidFill>
                  <a:srgbClr val="0000ff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curCell.Value = 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74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62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86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24000" y="1413000"/>
          <a:ext cx="5760720" cy="1557360"/>
        </p:xfrm>
        <a:graphic>
          <a:graphicData uri="http://schemas.openxmlformats.org/drawingml/2006/table">
            <a:tbl>
              <a:tblPr/>
              <a:tblGrid>
                <a:gridCol w="5760720"/>
              </a:tblGrid>
              <a:tr h="155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ub ToZero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ⓐ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unter = 1 To 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t curCell = Worksheets("Sheet1"). ⓑ (Counter, ⓒ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f ⓓ (curCell.Value)&lt; 0.5 Then curCell.Value =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ext Coun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End Su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6311160" y="1415160"/>
            <a:ext cx="270000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For → Range → C → In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While → Cells → 3 → In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For → Cells → C → Ab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④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For → Cells → 3 → Ab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308720" y="2997360"/>
            <a:ext cx="1266840" cy="36763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25520" y="6010200"/>
            <a:ext cx="290340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절대값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굴림"/>
              </a:rPr>
              <a:t>Abs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olute)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이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0.5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보다 작으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08000" y="620640"/>
            <a:ext cx="8950320" cy="19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▶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다음 그림과 같이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[B2:B5]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영역에 데이터 유효성 검사를 설정하였을 때 입력할 수 없는 값은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29520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[2012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년 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3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회 핵심 기출문제 풀이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-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스프레드시트 일반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149400" y="5229360"/>
            <a:ext cx="8893080" cy="135828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ff"/>
                </a:solidFill>
                <a:latin typeface="굴림"/>
              </a:rPr>
              <a:t>* [</a:t>
            </a:r>
            <a:r>
              <a:rPr b="1" lang="ko-KR" sz="1600" spc="-1" strike="noStrike">
                <a:solidFill>
                  <a:srgbClr val="0000ff"/>
                </a:solidFill>
                <a:latin typeface="굴림"/>
              </a:rPr>
              <a:t>데이터</a:t>
            </a:r>
            <a:r>
              <a:rPr b="1" lang="ko-KR" sz="1600" spc="-1" strike="noStrike">
                <a:solidFill>
                  <a:srgbClr val="0000ff"/>
                </a:solidFill>
                <a:latin typeface="굴림"/>
              </a:rPr>
              <a:t>]-[</a:t>
            </a:r>
            <a:r>
              <a:rPr b="1" lang="ko-KR" sz="1600" spc="-1" strike="noStrike">
                <a:solidFill>
                  <a:srgbClr val="0000ff"/>
                </a:solidFill>
                <a:latin typeface="굴림"/>
              </a:rPr>
              <a:t>데이터 도구</a:t>
            </a:r>
            <a:r>
              <a:rPr b="1" lang="ko-KR" sz="1600" spc="-1" strike="noStrike">
                <a:solidFill>
                  <a:srgbClr val="0000ff"/>
                </a:solidFill>
                <a:latin typeface="굴림"/>
              </a:rPr>
              <a:t>]-</a:t>
            </a:r>
            <a:r>
              <a:rPr b="1" lang="ko-KR" sz="1600" spc="-1" strike="noStrike">
                <a:solidFill>
                  <a:srgbClr val="0000ff"/>
                </a:solidFill>
                <a:latin typeface="굴림"/>
              </a:rPr>
              <a:t>데이터 유효성 검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: 10 ~ 20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으로 설정하였으므로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0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은 입력할 수 없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8" name="_x33539656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4968720" cy="3990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529240" y="1341720"/>
            <a:ext cx="246672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굴림"/>
              </a:rPr>
              <a:t>①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굴림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② 1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5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④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003640" y="5364000"/>
            <a:ext cx="399924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08000" y="620640"/>
            <a:ext cx="895032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▶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다음 중 엑셀의 작업 환경 설정을 위한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[Excel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옵션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]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의 각 메뉴에 대한 설명 중 옳지 않은 것은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기본 설정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]-[Excel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에서 가장 많이 사용하는 옵션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]: '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실시간 미리 보기 사용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을 선택하면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사항을 커서로 가리킬 때 해당 기능이 문서에 어떻게 영향을 주는지 결과를 미리 보여 준다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수식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]-[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수식 작업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]: '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수식에 표 이름 사용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을 선택하면 데이터가 입력된 범위에 행 또는 열 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이블이 있을 경우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이 레이블을 정의된 이름처럼 수식에 이름으로 사용할 수 있다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저장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]-[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통합 문서 저장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]: '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다음 형식으로 파일 저장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에서 통합 문서의 저장 파일 형식을 지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할 수 있다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④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[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고급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]-[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이 통합 문서의 계산 대상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]: '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다른 문서에 대한 링크 업데이트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'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를 선택하면 워크시트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 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연결된 외부 문서에 포함된 결과 값의 복사본을 저장한다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179280" y="29520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[2012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년 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3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회 핵심 기출문제 풀이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-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스프레드시트 일반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149400" y="3832200"/>
            <a:ext cx="8893080" cy="230652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1" lang="zh-CN" sz="1600" spc="-1" strike="noStrike">
                <a:solidFill>
                  <a:srgbClr val="0000ff"/>
                </a:solidFill>
                <a:latin typeface="굴림"/>
              </a:rPr>
              <a:t>실시간 미리 보기 사용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글꼴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글꼴 색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채우기 색 등의 선택 사항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0000"/>
                </a:solidFill>
                <a:uFillTx/>
                <a:latin typeface="굴림"/>
              </a:rPr>
              <a:t>마우스 포인터로 가리키면 적용된 결과를 미리 보여 준다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732720" y="3905280"/>
            <a:ext cx="21049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79280" y="29520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[2012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년 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3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회 핵심 기출문제 풀이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-</a:t>
            </a:r>
            <a:r>
              <a:rPr b="1" lang="zh-CN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스프레드시트 일반</a:t>
            </a:r>
            <a:r>
              <a:rPr b="1" lang="en-US" sz="2000" spc="-1" strike="noStrike">
                <a:solidFill>
                  <a:srgbClr val="cc9900"/>
                </a:solidFill>
                <a:latin typeface="나눔고딕"/>
                <a:ea typeface="나눔고딕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149400" y="765000"/>
            <a:ext cx="8893080" cy="578340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1" lang="zh-CN" sz="1600" spc="-1" strike="noStrike">
                <a:solidFill>
                  <a:srgbClr val="0000ff"/>
                </a:solidFill>
                <a:latin typeface="굴림"/>
              </a:rPr>
              <a:t>수식에 표 이름 사용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표에 행이나 열 이름이 있으면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이것을 수식에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1" lang="zh-CN" sz="1600" spc="-1" strike="noStrike">
                <a:solidFill>
                  <a:srgbClr val="0000ff"/>
                </a:solidFill>
                <a:latin typeface="굴림"/>
              </a:rPr>
              <a:t>다음 형식으로 파일 저장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파일 형식을 지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427640" y="1773360"/>
            <a:ext cx="3600360" cy="1396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95280" y="1760400"/>
            <a:ext cx="3456000" cy="13096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188000" y="3070080"/>
            <a:ext cx="191052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0000"/>
                </a:solidFill>
                <a:uFillTx/>
                <a:latin typeface="굴림"/>
              </a:rPr>
              <a:t>수식에 표 이름 사용 체크 </a:t>
            </a:r>
            <a:r>
              <a:rPr b="1" lang="zh-CN" sz="1600" spc="-1" strike="noStrike" u="sng">
                <a:solidFill>
                  <a:srgbClr val="0000ff"/>
                </a:solidFill>
                <a:uFillTx/>
                <a:latin typeface="굴림"/>
              </a:rPr>
              <a:t>해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537120" y="1341360"/>
            <a:ext cx="93348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일반 참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4753080" y="1341360"/>
            <a:ext cx="105552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구조적 참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5422680" y="3070080"/>
            <a:ext cx="161316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0000"/>
                </a:solidFill>
                <a:uFillTx/>
                <a:latin typeface="굴림"/>
              </a:rPr>
              <a:t>수식에 표 이름 사용 체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11280" y="4437000"/>
            <a:ext cx="604836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1:11:33Z</dcterms:created>
  <dc:creator>User</dc:creator>
  <dc:description/>
  <dc:language>en-US</dc:language>
  <cp:lastModifiedBy>MYHOME</cp:lastModifiedBy>
  <dcterms:modified xsi:type="dcterms:W3CDTF">2012-10-25T07:06:32Z</dcterms:modified>
  <cp:revision>305</cp:revision>
  <dc:subject/>
  <dc:title>슬라이드 1</dc:title>
</cp:coreProperties>
</file>