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043920" cy="2635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628120" y="6539040"/>
            <a:ext cx="4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98CA-9613-4F55-B347-641C50318B64}" type="slidenum"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7760" y="-41400"/>
            <a:ext cx="31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1</a:t>
            </a: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급 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893080" y="0"/>
            <a:ext cx="250920" cy="260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838840" y="-41400"/>
            <a:ext cx="31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기사퍼스트</a:t>
            </a: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(www.gisafirst.co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7840" y="4076640"/>
            <a:ext cx="227016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512720" cy="7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404640"/>
            <a:ext cx="2449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기사퍼스트</a:t>
            </a:r>
            <a:br>
              <a:rPr sz="2800"/>
            </a:br>
            <a:r>
              <a:rPr b="1" lang="ko-KR" sz="1600" spc="-1" strike="noStrike">
                <a:solidFill>
                  <a:srgbClr val="000000"/>
                </a:solidFill>
                <a:latin typeface="나눔고딕"/>
                <a:ea typeface="나눔고딕"/>
              </a:rPr>
              <a:t>www.gisafirs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282920" y="5877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강사 </a:t>
            </a:r>
            <a:r>
              <a:rPr b="1" lang="en-US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권우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40" y="1268280"/>
            <a:ext cx="88930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급 필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[2012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년 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회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핵심 기출문제 풀이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 </a:t>
            </a:r>
            <a:r>
              <a:rPr b="1" lang="zh-CN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데이터베이스 일반 </a:t>
            </a: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테이블을 이용하여 월별로 생일인 학생수를 표시하는 폼을 만들기 위한 레코드 원본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sum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select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 as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월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, count(*) as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일자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from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학생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group by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elect month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from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597840"/>
            <a:ext cx="8713800" cy="2783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Select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month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년월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count(*)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생일자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학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굴림"/>
              </a:rPr>
              <a:t>Group by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 month(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생년월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AS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필드 이름이나 테이블 이름에 별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Alias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Group by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절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특정 필드를 기준으로 그룹화하여 검색할 때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484280"/>
          <a:ext cx="4249800" cy="33480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년월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04000" y="3645000"/>
          <a:ext cx="2089080" cy="66996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일자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016600" y="4462560"/>
            <a:ext cx="3889440" cy="12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집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그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함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COUNT(*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레코드의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건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Null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포함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COUNT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레코드의 건수 </a:t>
            </a: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Null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SUM(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필드명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ff"/>
                </a:solidFill>
                <a:latin typeface="굴림"/>
              </a:rPr>
              <a:t>합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11920" y="4919760"/>
            <a:ext cx="424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월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620640"/>
            <a:ext cx="8950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그림과 같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컨트롤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된 문자를 포함하는 레코드만을 표시하도록 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시저의 코드로 옳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65720"/>
            <a:ext cx="8713800" cy="2309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건을 그대로 입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된 문자를 포함하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ike *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자형이므로 조건도 문자형으로 변경하기 위해 작은 따옴표로 묶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‘*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 큰 따옴표 묶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‘*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</a:t>
            </a:r>
            <a:r>
              <a:rPr b="1" lang="ko-KR" sz="3200" spc="-1" strike="noStrike">
                <a:solidFill>
                  <a:srgbClr val="ff0000"/>
                </a:solidFill>
                <a:latin typeface="굴림"/>
              </a:rPr>
              <a:t>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1" lang="ko-KR" sz="3200" spc="-1" strike="noStrike">
                <a:solidFill>
                  <a:srgbClr val="ff0000"/>
                </a:solidFill>
                <a:latin typeface="굴림"/>
              </a:rPr>
              <a:t>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과 컨트롤명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 연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“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‘*”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“*’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_x81438208" descr=""/>
          <p:cNvPicPr/>
          <p:nvPr/>
        </p:nvPicPr>
        <p:blipFill>
          <a:blip r:embed="rId1"/>
          <a:stretch/>
        </p:blipFill>
        <p:spPr>
          <a:xfrm>
            <a:off x="5435640" y="44280"/>
            <a:ext cx="363384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1840" y="1704960"/>
            <a:ext cx="4231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Fal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③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e.Filter="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학과명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ike '*"&amp; txt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조회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e.FilterOn=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=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학과명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ike '*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*'"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FilterOn=Fal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620640"/>
            <a:ext cx="89503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1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– 1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강에서 설명한 기출문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폼의 작성 과정에 대한 다음 설명 중 바르지 못한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cmb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 명령 단추를 클릭하면 이름 필드의 값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 컨트롤에 입력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문자열이 일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레코드를 표시하도록 하기 위해 다음과 같이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벤트 프로시저를 작성하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94360" y="1379520"/>
          <a:ext cx="3960720" cy="10684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vate Sub cmb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회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_Clic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.Filter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'"&amp; txt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회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amp; "'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.FilterOn =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49400" y="2852640"/>
            <a:ext cx="8893080" cy="3494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Filter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= 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'"&amp;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 "'"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e.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FilterOn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= Tr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Me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현재 개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제에서는 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ilter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레코드를 추출하는 조건을 설정하는 속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FilterOn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을 적용할지를 설정하는 속성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True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 적용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Fasle : Filter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속성이 해제되어 전체 레코드 표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=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'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" 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 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9900"/>
                </a:solidFill>
                <a:latin typeface="굴림"/>
              </a:rPr>
              <a:t>"</a:t>
            </a:r>
            <a:r>
              <a:rPr b="1" lang="ko-KR" sz="2800" spc="-1" strike="noStrike">
                <a:solidFill>
                  <a:srgbClr val="ff0000"/>
                </a:solidFill>
                <a:latin typeface="굴림"/>
              </a:rPr>
              <a:t>'</a:t>
            </a:r>
            <a:r>
              <a:rPr b="1" lang="ko-KR" sz="2800" spc="-1" strike="noStrike">
                <a:solidFill>
                  <a:srgbClr val="0099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9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강에서 설명한 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드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름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문자형이므로 조건도 문자형으로 변경하기 위해 작은따옴표로 묶기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‘tx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조회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 큰 따옴표 묶기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“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이름 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=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”     “</a:t>
            </a:r>
            <a:r>
              <a:rPr b="1" lang="ko-KR" sz="3200" spc="-1" strike="noStrike" u="sng">
                <a:solidFill>
                  <a:srgbClr val="0000ff"/>
                </a:solidFill>
                <a:uFillTx/>
                <a:latin typeface="굴림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”)       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과 컨트롤명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 연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435640" y="3429000"/>
          <a:ext cx="3467160" cy="90972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우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영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364000" y="2924280"/>
            <a:ext cx="35290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034680" y="2959200"/>
            <a:ext cx="69588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xt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277760" y="2959200"/>
            <a:ext cx="816120" cy="370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cmb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96360" y="2276640"/>
            <a:ext cx="0" cy="72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270080"/>
          <a:ext cx="7128000" cy="2279520"/>
        </p:xfrm>
        <a:graphic>
          <a:graphicData uri="http://schemas.openxmlformats.org/drawingml/2006/table">
            <a:tbl>
              <a:tblPr/>
              <a:tblGrid>
                <a:gridCol w="4564080"/>
                <a:gridCol w="25639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d0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d0c9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문자열 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일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류코드에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B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를 포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ike *B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번호에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A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가 포함된 것을 </a:t>
                      </a:r>
                      <a:r>
                        <a:rPr b="1" lang="zh-CN" sz="2400" spc="-1" strike="noStrike" u="sng">
                          <a:solidFill>
                            <a:srgbClr val="0000ff"/>
                          </a:solidFill>
                          <a:uFillTx/>
                          <a:latin typeface="굴림"/>
                        </a:rPr>
                        <a:t>제외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like *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객 </a:t>
                      </a: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성이 박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면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ik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537120" y="765000"/>
            <a:ext cx="933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수식 조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보고서의 작성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외부 엑셀 파일에 대한 연결 테이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Linked Table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사용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QL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을 지정하면 그 쿼리 결과를 이용하여 보고서를 만들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의 레코드 원본으로 저장해 놓은 쿼리를 사용하는 경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쿼리가 바뀌면 변경된 쿼리를 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용하여 보고서가 작성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보고서의 레코드 원본으로 테이블을 사용할 수 있으며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경우에 보고서에서 수정된 내용은 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블에 반영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997360"/>
            <a:ext cx="8713800" cy="3766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레코드 원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테이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쿼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SQ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을 원본으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를 작성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연결 테이블 이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연결 테이블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연결된 프로그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액세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양쪽에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편집할 수 있도록 하는 작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외부 데이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져오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연결된 테이블의 데이터를 변경하면 원본 데이터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동으로 변경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는 출력용 개체이므로 폼처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수정된 내용이 테이블에 반영되지 않는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테이블이나 쿼리를 원본으로 하여 정보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수정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삭제 등의 작업을 편리하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수행할 수 있도록 하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와 데이터베이스간의 대화형 처리를가능하게 해주는 개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고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사용자가 원하는 형태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출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 주는 역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86400" y="3119400"/>
            <a:ext cx="3354480" cy="22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620640"/>
            <a:ext cx="89503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입력 마스크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는 필드에 입력할 수 있는 데이터를 제한하는 것으로 세미콜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;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구분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역으로 구분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의 첫 번째 구역은 사용자 정의 기호를 사용하여 입력 마스크를 지정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③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서식 문자 저장 여부를 지정하는 입력 마스크의 두번째 구역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'0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면 서식문자를 제외한 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값만 저장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의 세 번째 구역은 데이터가 입력되어야 하는 자리에 표시될 문자를 지정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49400" y="2997360"/>
            <a:ext cx="8893080" cy="3570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입력 마스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 입력 시 데이터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신속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정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게 입력할 수 있도록 하는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입력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 마스크 마법사’ 이용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ex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4043520"/>
            <a:ext cx="501012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3716280"/>
            <a:ext cx="170640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5517720" y="4689360"/>
            <a:ext cx="383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360120" y="5734080"/>
            <a:ext cx="192564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숫자만 입력하면 자동으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민등록번호 형식으로 입력됨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데이터베이스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49400" y="765000"/>
            <a:ext cx="8893080" cy="5784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지정 형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미콜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;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구분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 구역으로 구분된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ex)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000000\-0000000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첫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사용자 정의 기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사용하여 입력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마스크를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두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할 때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이픈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같은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서식 문자를 테이블에 저장할지 여부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0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또는 공백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입력값만 저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세 번째 구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데이터를 입력할때 입력되어야 하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리에 표시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문자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마스크 기호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문자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_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언더바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지정 형식을 모를 경우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입력 마스크 마법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용하면 쉽게 입력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24360" y="898560"/>
            <a:ext cx="3200400" cy="1666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752640" cy="242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1628640"/>
            <a:ext cx="362088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1628640"/>
            <a:ext cx="23652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628640"/>
            <a:ext cx="23652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12000" y="5105520"/>
            <a:ext cx="2238120" cy="141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67960" y="90792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863240" y="263700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655600" y="5084640"/>
            <a:ext cx="365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1:11:33Z</dcterms:created>
  <dc:creator>User</dc:creator>
  <dc:description/>
  <dc:language>en-US</dc:language>
  <cp:lastModifiedBy>MYHOME</cp:lastModifiedBy>
  <dcterms:modified xsi:type="dcterms:W3CDTF">2012-10-27T04:50:21Z</dcterms:modified>
  <cp:revision>312</cp:revision>
  <dc:subject/>
  <dc:title>슬라이드 1</dc:title>
</cp:coreProperties>
</file>