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48495-58AC-4BA4-B373-797AAFCFF9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64B37-A5F8-445B-A669-8F156D65AA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44B2D-3654-4666-AEF7-A166C5CE24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E15C7-F731-41F1-94B2-F3B4D09ADF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66A0-6533-4CDE-BE6B-E1F6C7491D4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5F7B-BE52-4981-8267-D6222DEAB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0A89-0851-4EB3-8283-3B4CBEAE8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5898-52FB-4A46-B8C1-BB60A0A05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E047-318C-42B7-AD0E-F22F3E989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35080" y="366480"/>
            <a:ext cx="64087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5B06-5F9C-47C9-9953-466B712FA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3FAA-5FF9-4555-9C90-A975B1F4F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7C3F7-3417-44A6-A189-0F8CD39CF1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77F2-5507-4FB5-91A7-01DBE03F3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7F9E-1152-47FA-B818-E26F96675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BF74-87AE-4795-897B-71640AB84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0B56-541A-41A7-930F-92C29CE6E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80A6-C2ED-4302-A7B6-9D7FA2AA433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49F90-FE93-4A75-9CDF-FBD43C98C4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FE63B-74D1-4CD8-B442-85FB7B940A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BA8A8-E796-4530-A342-6CB6B4900F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35080" y="366480"/>
            <a:ext cx="64087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D246D-63C4-4E5C-A349-2F5744BA8F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1AD93-C08C-472A-86D6-40734E9599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005BE-1B7A-4CBD-8E7C-1F2500B669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60F83-33E6-4910-A743-D0990FF009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8763120"/>
            <a:ext cx="6858000" cy="380880"/>
          </a:xfrm>
          <a:prstGeom prst="rect">
            <a:avLst/>
          </a:pr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" name="직사각형 7"/>
          <p:cNvSpPr/>
          <p:nvPr/>
        </p:nvSpPr>
        <p:spPr>
          <a:xfrm>
            <a:off x="0" y="3240"/>
            <a:ext cx="6858000" cy="377640"/>
          </a:xfrm>
          <a:prstGeom prst="rect">
            <a:avLst/>
          </a:prstGeom>
          <a:solidFill>
            <a:srgbClr val="d092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모음T"/>
                <a:ea typeface="휴먼모음T"/>
              </a:rPr>
              <a:t>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모음T"/>
                <a:ea typeface="휴먼모음T"/>
              </a:rPr>
              <a:t>과정명</a:t>
            </a:r>
            <a:endParaRPr b="0" lang="en-US" sz="18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44d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919f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444d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919f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444d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4914720" y="8763120"/>
            <a:ext cx="16002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Georgia"/>
                <a:ea typeface="HY견명조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FCC87-CAB0-4677-B9A6-8CB8FF1F2324}" type="slidenum">
              <a:rPr b="0" lang="ko-KR" sz="2400" spc="-1" strike="noStrike">
                <a:solidFill>
                  <a:srgbClr val="000000"/>
                </a:solidFill>
                <a:latin typeface="Georgia"/>
                <a:ea typeface="HY견명조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직사각형 6"/>
          <p:cNvSpPr/>
          <p:nvPr/>
        </p:nvSpPr>
        <p:spPr>
          <a:xfrm>
            <a:off x="0" y="8763120"/>
            <a:ext cx="6858000" cy="380880"/>
          </a:xfrm>
          <a:prstGeom prst="rect">
            <a:avLst/>
          </a:pr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42" name="직사각형 8"/>
          <p:cNvSpPr/>
          <p:nvPr/>
        </p:nvSpPr>
        <p:spPr>
          <a:xfrm>
            <a:off x="0" y="3240"/>
            <a:ext cx="6858000" cy="377640"/>
          </a:xfrm>
          <a:prstGeom prst="rect">
            <a:avLst/>
          </a:prstGeom>
          <a:solidFill>
            <a:srgbClr val="d092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모음T"/>
                <a:ea typeface="휴먼모음T"/>
              </a:rPr>
              <a:t>머리보다 손이 먼저 움직이는 메모의 기술</a:t>
            </a:r>
            <a:endParaRPr b="0" lang="en-US" sz="18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43" name="직사각형 9"/>
          <p:cNvSpPr/>
          <p:nvPr/>
        </p:nvSpPr>
        <p:spPr>
          <a:xfrm>
            <a:off x="320760" y="539640"/>
            <a:ext cx="6216480" cy="860436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44d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919f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444d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919f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444d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2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3"/>
          </p:nvPr>
        </p:nvSpPr>
        <p:spPr>
          <a:xfrm>
            <a:off x="4914720" y="8763120"/>
            <a:ext cx="16002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Georgia"/>
                <a:ea typeface="HY견명조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HY견명조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bingo.naver.com/album/image_view.htm?user_id=bkahi84&amp;board_no=32414&amp;nid=8329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3"/>
          <p:cNvSpPr/>
          <p:nvPr/>
        </p:nvSpPr>
        <p:spPr>
          <a:xfrm>
            <a:off x="1379880" y="1143000"/>
            <a:ext cx="4420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돋움"/>
              </a:rPr>
              <a:t>9</a:t>
            </a:r>
            <a:r>
              <a:rPr b="1" lang="ko-KR" sz="2400" spc="-1" strike="noStrike">
                <a:solidFill>
                  <a:srgbClr val="000000"/>
                </a:solidFill>
                <a:latin typeface="돋움"/>
              </a:rPr>
              <a:t>차시 </a:t>
            </a:r>
            <a:r>
              <a:rPr b="1" lang="en-US" sz="2400" spc="-1" strike="noStrike">
                <a:solidFill>
                  <a:srgbClr val="000000"/>
                </a:solidFill>
                <a:latin typeface="돋움"/>
              </a:rPr>
              <a:t>: </a:t>
            </a:r>
            <a:r>
              <a:rPr b="1" lang="ko-KR" sz="2400" spc="-1" strike="noStrike">
                <a:solidFill>
                  <a:srgbClr val="000000"/>
                </a:solidFill>
                <a:latin typeface="돋움"/>
              </a:rPr>
              <a:t>일상 생활에서 메모를 활용하자</a:t>
            </a:r>
            <a:r>
              <a:rPr b="1" lang="en-US" sz="2400" spc="-1" strike="noStrike">
                <a:solidFill>
                  <a:srgbClr val="000000"/>
                </a:solidFill>
                <a:latin typeface="돋움"/>
              </a:rPr>
              <a:t>. (1)</a:t>
            </a:r>
            <a:endParaRPr b="0" lang="en-US" sz="2400" spc="-1" strike="noStrike">
              <a:solidFill>
                <a:srgbClr val="000000"/>
              </a:solidFill>
              <a:latin typeface="돋움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돋움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746280" y="6541920"/>
            <a:ext cx="5562360" cy="1244880"/>
          </a:xfrm>
          <a:prstGeom prst="rect">
            <a:avLst/>
          </a:prstGeom>
          <a:solidFill>
            <a:srgbClr val="ffffff"/>
          </a:solidFill>
          <a:ln w="38160">
            <a:solidFill>
              <a:srgbClr val="7f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86" name="Rectangle 8"/>
          <p:cNvSpPr/>
          <p:nvPr/>
        </p:nvSpPr>
        <p:spPr>
          <a:xfrm>
            <a:off x="746280" y="4027320"/>
            <a:ext cx="5562360" cy="2057400"/>
          </a:xfrm>
          <a:prstGeom prst="rect">
            <a:avLst/>
          </a:prstGeom>
          <a:solidFill>
            <a:srgbClr val="ffffff"/>
          </a:solidFill>
          <a:ln w="38160">
            <a:solidFill>
              <a:srgbClr val="7f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87" name="Rectangle 9"/>
          <p:cNvSpPr/>
          <p:nvPr/>
        </p:nvSpPr>
        <p:spPr>
          <a:xfrm>
            <a:off x="898560" y="4332240"/>
            <a:ext cx="4572000" cy="9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전화 통화를 위한 메모</a:t>
            </a:r>
            <a:endParaRPr b="0" lang="en-US" sz="1400" spc="-1" strike="noStrike">
              <a:solidFill>
                <a:srgbClr val="000000"/>
              </a:solidFill>
              <a:latin typeface="돋움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정보를 정리하는 메모</a:t>
            </a:r>
            <a:endParaRPr b="0" lang="en-US" sz="1400" spc="-1" strike="noStrike">
              <a:solidFill>
                <a:srgbClr val="000000"/>
              </a:solidFill>
              <a:latin typeface="돋움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강연회나 세미나에서의 메모</a:t>
            </a:r>
            <a:endParaRPr b="0" lang="en-US" sz="1400" spc="-1" strike="noStrike">
              <a:solidFill>
                <a:srgbClr val="000000"/>
              </a:solidFill>
              <a:latin typeface="돋움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전달할 때의 메모</a:t>
            </a:r>
            <a:endParaRPr b="0" lang="en-US" sz="14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88" name="Rectangle 10"/>
          <p:cNvSpPr/>
          <p:nvPr/>
        </p:nvSpPr>
        <p:spPr>
          <a:xfrm>
            <a:off x="785880" y="6539040"/>
            <a:ext cx="542916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전화 통화를 위한 메모</a:t>
            </a:r>
            <a:r>
              <a:rPr b="0" i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i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정보를 정리하는 메모 방법을 이해할 수 있다</a:t>
            </a:r>
            <a:r>
              <a:rPr b="0" i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돋움"/>
            </a:endParaRPr>
          </a:p>
          <a:p>
            <a:pPr marL="171360" indent="-171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강연회나 세미나에서의 메모 기술을 익힐 수 있다</a:t>
            </a:r>
            <a:r>
              <a:rPr b="0" i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돋움"/>
            </a:endParaRPr>
          </a:p>
          <a:p>
            <a:pPr marL="171360" indent="-171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내용을 전달할 때의 메모 방법을 적용할 수 있다</a:t>
            </a:r>
            <a:r>
              <a:rPr b="0" i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돋움"/>
            </a:endParaRPr>
          </a:p>
        </p:txBody>
      </p:sp>
      <p:pic>
        <p:nvPicPr>
          <p:cNvPr id="89" name="Picture 11" descr="j0299549"/>
          <p:cNvPicPr/>
          <p:nvPr/>
        </p:nvPicPr>
        <p:blipFill>
          <a:blip r:embed="rId1"/>
          <a:stretch/>
        </p:blipFill>
        <p:spPr>
          <a:xfrm>
            <a:off x="4784760" y="4637160"/>
            <a:ext cx="1219320" cy="11556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12"/>
          <p:cNvSpPr/>
          <p:nvPr/>
        </p:nvSpPr>
        <p:spPr>
          <a:xfrm>
            <a:off x="1653480" y="3686040"/>
            <a:ext cx="352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돋움"/>
                <a:ea typeface="굴림"/>
              </a:rPr>
              <a:t>‘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일상 생활에서 활용할 수 있는 메모 방법</a:t>
            </a:r>
            <a:r>
              <a:rPr b="1" lang="ko-KR" sz="1400" spc="-1" strike="noStrike">
                <a:solidFill>
                  <a:srgbClr val="000000"/>
                </a:solidFill>
                <a:latin typeface="돋움"/>
                <a:ea typeface="굴림"/>
              </a:rPr>
              <a:t>’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을 찾기 위한 발자취</a:t>
            </a:r>
            <a:endParaRPr b="0" lang="en-US" sz="1400" spc="-1" strike="noStrike">
              <a:solidFill>
                <a:srgbClr val="000000"/>
              </a:solidFill>
              <a:latin typeface="돋움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91" name="Text Box 13"/>
          <p:cNvSpPr/>
          <p:nvPr/>
        </p:nvSpPr>
        <p:spPr>
          <a:xfrm>
            <a:off x="964440" y="6200640"/>
            <a:ext cx="13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나는 할 수 있다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4"/>
          <p:cNvSpPr/>
          <p:nvPr/>
        </p:nvSpPr>
        <p:spPr>
          <a:xfrm>
            <a:off x="3633840" y="1619280"/>
            <a:ext cx="2209680" cy="2452680"/>
          </a:xfrm>
          <a:prstGeom prst="rect">
            <a:avLst/>
          </a:prstGeom>
          <a:solidFill>
            <a:srgbClr val="ffe1e1"/>
          </a:solidFill>
          <a:ln w="9360">
            <a:solidFill>
              <a:srgbClr val="7f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3a447"/>
                </a:solidFill>
                <a:latin typeface="돋움"/>
              </a:rPr>
              <a:t>Point 2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1109520" y="4370400"/>
            <a:ext cx="2210040" cy="2362320"/>
          </a:xfrm>
          <a:prstGeom prst="rect">
            <a:avLst/>
          </a:prstGeom>
          <a:solidFill>
            <a:srgbClr val="ffe1e1"/>
          </a:solidFill>
          <a:ln w="9360">
            <a:solidFill>
              <a:srgbClr val="7f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3a447"/>
                </a:solidFill>
                <a:latin typeface="돋움"/>
              </a:rPr>
              <a:t>Point 3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94" name="Rectangle 6"/>
          <p:cNvSpPr/>
          <p:nvPr/>
        </p:nvSpPr>
        <p:spPr>
          <a:xfrm>
            <a:off x="3664080" y="4370400"/>
            <a:ext cx="2209680" cy="2362320"/>
          </a:xfrm>
          <a:prstGeom prst="rect">
            <a:avLst/>
          </a:prstGeom>
          <a:solidFill>
            <a:srgbClr val="ffe1e1"/>
          </a:solidFill>
          <a:ln w="9360">
            <a:solidFill>
              <a:srgbClr val="7f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3a447"/>
                </a:solidFill>
                <a:latin typeface="돋움"/>
              </a:rPr>
              <a:t>Point 4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95" name="Text Box 13"/>
          <p:cNvSpPr/>
          <p:nvPr/>
        </p:nvSpPr>
        <p:spPr>
          <a:xfrm>
            <a:off x="3633840" y="2152800"/>
            <a:ext cx="2209680" cy="17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 </a:t>
            </a: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정보 스크랩의 포인트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1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일정한 크기로 복사하여 파일에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절하거나 붙여서 책으로 만든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2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복사하여 정리할 때는 기사의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여백에 느낀 점을 간단하게 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메모한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3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일정한 크기로 복사형 철해 둘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시간마저 없다면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우선 파일 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상자에 넣어두고 나중에 다시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읽어보면서 정리한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96" name="Text Box 14"/>
          <p:cNvSpPr/>
          <p:nvPr/>
        </p:nvSpPr>
        <p:spPr>
          <a:xfrm>
            <a:off x="1109520" y="4888080"/>
            <a:ext cx="2210040" cy="16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 </a:t>
            </a: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세미나와 강연회에서 하는 메모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1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무슨 내용인지만 알아볼 수 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있으면 되므로 너무 잘 쓰려고 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애쓸 필요는 없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2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제목은 제일 위에 큼지막하게 쓴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3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주제별로 페이지를 구분한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4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글씨는 읽기 좋은 크기로 쓴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5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중요한 부분에는 빨간색 펜이나 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형광펜으로 표시한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3664080" y="4827600"/>
            <a:ext cx="236196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 </a:t>
            </a: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전언 메모의 주의점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1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간단하게 용건만 눈에 띄는 곳에 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놓는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2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전화 통화를 통해 느낀 분위기를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적는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3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상대방의 입장에서 메모한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98" name="Rectangle 19"/>
          <p:cNvSpPr/>
          <p:nvPr/>
        </p:nvSpPr>
        <p:spPr>
          <a:xfrm>
            <a:off x="1123920" y="1619280"/>
            <a:ext cx="2209680" cy="2452680"/>
          </a:xfrm>
          <a:prstGeom prst="rect">
            <a:avLst/>
          </a:prstGeom>
          <a:solidFill>
            <a:srgbClr val="ffe1e1"/>
          </a:solidFill>
          <a:ln w="9360">
            <a:solidFill>
              <a:srgbClr val="7f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99" name="Text Box 20"/>
          <p:cNvSpPr/>
          <p:nvPr/>
        </p:nvSpPr>
        <p:spPr>
          <a:xfrm>
            <a:off x="1152360" y="2071800"/>
            <a:ext cx="213372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 </a:t>
            </a: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전화를 걸거나 받을 때의 메모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1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바쁜 와중 전화를 받았을 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때에는 상대방의 말을 빠짐없이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메모해 둔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2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전화 통화할 때 숫자와 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고유명사는 반드시 기록한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3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메모지는 큰 종이를 준비하고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나중에 따로 요점만 정리한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4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자신이 전화를 할 때는 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상대방에게 이야기할 내용을 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미리 적어본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00" name="Rectangle 21"/>
          <p:cNvSpPr/>
          <p:nvPr/>
        </p:nvSpPr>
        <p:spPr>
          <a:xfrm>
            <a:off x="1278720" y="1847880"/>
            <a:ext cx="59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3a447"/>
                </a:solidFill>
                <a:latin typeface="돋움"/>
              </a:rPr>
              <a:t>Point 1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01" name="Text Box 22"/>
          <p:cNvSpPr/>
          <p:nvPr/>
        </p:nvSpPr>
        <p:spPr>
          <a:xfrm>
            <a:off x="189000" y="468360"/>
            <a:ext cx="36003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f6f6f"/>
                </a:solidFill>
                <a:latin typeface="HY헤드라인M"/>
                <a:ea typeface="HY헤드라인M"/>
              </a:rPr>
              <a:t>Point </a:t>
            </a:r>
            <a:r>
              <a:rPr b="1" lang="ko-KR" sz="3000" spc="-1" strike="noStrike">
                <a:solidFill>
                  <a:srgbClr val="7f6f6f"/>
                </a:solidFill>
                <a:latin typeface="HY헤드라인M"/>
                <a:ea typeface="HY헤드라인M"/>
              </a:rPr>
              <a:t>학습</a:t>
            </a:r>
            <a:endParaRPr b="0" lang="en-US" sz="3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02" name="Line 24"/>
          <p:cNvSpPr/>
          <p:nvPr/>
        </p:nvSpPr>
        <p:spPr>
          <a:xfrm>
            <a:off x="264960" y="110160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5"/>
          <p:cNvSpPr/>
          <p:nvPr/>
        </p:nvSpPr>
        <p:spPr>
          <a:xfrm>
            <a:off x="380880" y="762120"/>
            <a:ext cx="19051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f6f6f"/>
                </a:solidFill>
                <a:latin typeface="HY헤드라인M"/>
                <a:ea typeface="HY헤드라인M"/>
              </a:rPr>
              <a:t>Plus One</a:t>
            </a:r>
            <a:endParaRPr b="0" lang="en-US" sz="3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04" name="Line 27"/>
          <p:cNvSpPr/>
          <p:nvPr/>
        </p:nvSpPr>
        <p:spPr>
          <a:xfrm>
            <a:off x="457200" y="139536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pic>
        <p:nvPicPr>
          <p:cNvPr id="105" name="Picture 53" descr="bkahi84_2">
            <a:hlinkClick r:id="rId1"/>
          </p:cNvPr>
          <p:cNvPicPr/>
          <p:nvPr/>
        </p:nvPicPr>
        <p:blipFill>
          <a:blip r:embed="rId2"/>
          <a:srcRect l="0" t="0" r="51709" b="35003"/>
          <a:stretch/>
        </p:blipFill>
        <p:spPr>
          <a:xfrm>
            <a:off x="1066680" y="1905120"/>
            <a:ext cx="4496040" cy="3506760"/>
          </a:xfrm>
          <a:prstGeom prst="rect">
            <a:avLst/>
          </a:prstGeom>
          <a:ln w="0">
            <a:noFill/>
          </a:ln>
        </p:spPr>
      </p:pic>
      <p:sp>
        <p:nvSpPr>
          <p:cNvPr id="106" name="AutoShape 55"/>
          <p:cNvSpPr/>
          <p:nvPr/>
        </p:nvSpPr>
        <p:spPr>
          <a:xfrm>
            <a:off x="1752480" y="1319040"/>
            <a:ext cx="2286000" cy="533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세미나를 매끄럽게 진행하기 위한 메모</a:t>
            </a:r>
            <a:endParaRPr b="0" lang="en-US" sz="15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07" name="AutoShape 63"/>
          <p:cNvSpPr/>
          <p:nvPr/>
        </p:nvSpPr>
        <p:spPr>
          <a:xfrm>
            <a:off x="1600200" y="2133720"/>
            <a:ext cx="3657600" cy="1523880"/>
          </a:xfrm>
          <a:prstGeom prst="roundRect">
            <a:avLst>
              <a:gd name="adj" fmla="val 16667"/>
            </a:avLst>
          </a:prstGeom>
          <a:solidFill>
            <a:srgbClr val="ffe1e1"/>
          </a:solidFill>
          <a:ln w="0">
            <a:noFill/>
          </a:ln>
          <a:effectLst>
            <a:outerShdw dist="17819" dir="2700000" blurRad="0" rotWithShape="0">
              <a:srgbClr val="fefa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HY엽서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이벤트에 대해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HY엽서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차별화</a:t>
            </a:r>
            <a:r>
              <a:rPr b="0" lang="en-US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회사의 특징을 표현하려면</a:t>
            </a:r>
            <a:r>
              <a:rPr b="0" lang="en-US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HY엽서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소프트웨어의 힘</a:t>
            </a:r>
            <a:r>
              <a:rPr b="0" lang="en-US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기획의 힘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HY엽서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선배에게 도움 요청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HY엽서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마무리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08" name="AutoShape 65"/>
          <p:cNvSpPr/>
          <p:nvPr/>
        </p:nvSpPr>
        <p:spPr>
          <a:xfrm>
            <a:off x="1600200" y="4191120"/>
            <a:ext cx="3657600" cy="1295280"/>
          </a:xfrm>
          <a:prstGeom prst="roundRect">
            <a:avLst>
              <a:gd name="adj" fmla="val 16667"/>
            </a:avLst>
          </a:prstGeom>
          <a:solidFill>
            <a:srgbClr val="ffe8d1"/>
          </a:solidFill>
          <a:ln w="0">
            <a:noFill/>
          </a:ln>
          <a:effectLst>
            <a:outerShdw dist="17819" dir="2700000" blurRad="0" rotWithShape="0">
              <a:srgbClr val="fefa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HY엽서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사업목적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장소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09" name="AutoShape 76"/>
          <p:cNvSpPr/>
          <p:nvPr/>
        </p:nvSpPr>
        <p:spPr>
          <a:xfrm>
            <a:off x="2500200" y="3809880"/>
            <a:ext cx="1447920" cy="304920"/>
          </a:xfrm>
          <a:prstGeom prst="downArrow">
            <a:avLst>
              <a:gd name="adj1" fmla="val 50000"/>
              <a:gd name="adj2" fmla="val 56250"/>
            </a:avLst>
          </a:prstGeom>
          <a:solidFill>
            <a:srgbClr val="7f6f6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돋움"/>
              </a:rPr>
              <a:t>주제별로 한 장씩 대본을 쓴다</a:t>
            </a:r>
            <a:r>
              <a:rPr b="1" lang="en-US" sz="12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10" name="Line 77"/>
          <p:cNvSpPr/>
          <p:nvPr/>
        </p:nvSpPr>
        <p:spPr>
          <a:xfrm flipH="1">
            <a:off x="3429000" y="2286000"/>
            <a:ext cx="8380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11" name="Rectangle 78"/>
          <p:cNvSpPr/>
          <p:nvPr/>
        </p:nvSpPr>
        <p:spPr>
          <a:xfrm>
            <a:off x="4339800" y="2057400"/>
            <a:ext cx="54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돋움"/>
              </a:rPr>
              <a:t>이것이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돋움"/>
              </a:rPr>
              <a:t>톱페이지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12" name="Line 82"/>
          <p:cNvSpPr/>
          <p:nvPr/>
        </p:nvSpPr>
        <p:spPr>
          <a:xfrm flipH="1">
            <a:off x="4114800" y="4556160"/>
            <a:ext cx="380880" cy="92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13" name="Rectangle 85"/>
          <p:cNvSpPr/>
          <p:nvPr/>
        </p:nvSpPr>
        <p:spPr>
          <a:xfrm>
            <a:off x="4496760" y="4191120"/>
            <a:ext cx="754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돋움"/>
              </a:rPr>
              <a:t>본인만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돋움"/>
              </a:rPr>
              <a:t>알아볼 수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돋움"/>
              </a:rPr>
              <a:t>있으면 된다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14" name="Freeform 88"/>
          <p:cNvSpPr/>
          <p:nvPr/>
        </p:nvSpPr>
        <p:spPr>
          <a:xfrm>
            <a:off x="3112920" y="4692600"/>
            <a:ext cx="1187640" cy="3650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15" name="Freeform 91"/>
          <p:cNvSpPr/>
          <p:nvPr/>
        </p:nvSpPr>
        <p:spPr>
          <a:xfrm>
            <a:off x="3193920" y="5181480"/>
            <a:ext cx="641520" cy="1144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16" name="Rectangle 86"/>
          <p:cNvSpPr/>
          <p:nvPr/>
        </p:nvSpPr>
        <p:spPr>
          <a:xfrm>
            <a:off x="3159360" y="4708440"/>
            <a:ext cx="94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새로운 </a:t>
            </a:r>
            <a:r>
              <a:rPr b="0" lang="en-US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BI </a:t>
            </a:r>
            <a:r>
              <a:rPr b="0" lang="ko-KR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홍보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17" name="Freeform 90"/>
          <p:cNvSpPr/>
          <p:nvPr/>
        </p:nvSpPr>
        <p:spPr>
          <a:xfrm>
            <a:off x="3159000" y="4994280"/>
            <a:ext cx="621000" cy="1112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18" name="Freeform 91"/>
          <p:cNvSpPr/>
          <p:nvPr/>
        </p:nvSpPr>
        <p:spPr>
          <a:xfrm>
            <a:off x="3193920" y="5181480"/>
            <a:ext cx="641520" cy="1144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19" name="Freeform 92"/>
          <p:cNvSpPr/>
          <p:nvPr/>
        </p:nvSpPr>
        <p:spPr>
          <a:xfrm>
            <a:off x="3087720" y="5106960"/>
            <a:ext cx="1033560" cy="586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20" name="Freeform 93"/>
          <p:cNvSpPr/>
          <p:nvPr/>
        </p:nvSpPr>
        <p:spPr>
          <a:xfrm>
            <a:off x="3824280" y="5045040"/>
            <a:ext cx="174600" cy="2160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6T14:42:06Z</dcterms:created>
  <dc:creator>강형구</dc:creator>
  <dc:description/>
  <dc:language>en-US</dc:language>
  <cp:lastModifiedBy>a</cp:lastModifiedBy>
  <dcterms:modified xsi:type="dcterms:W3CDTF">2008-10-09T02:12:35Z</dcterms:modified>
  <cp:revision>11</cp:revision>
  <dc:subject/>
  <dc:title>슬라이드 1</dc:title>
</cp:coreProperties>
</file>