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E2D2-FAA0-4056-BCA9-5F5ECCEDE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D821-D970-41DC-9071-9879FDFA2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B975-8B12-46D0-9E68-323D45BDE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A009-DFF2-4C55-820E-BB879326B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168-E83E-49FF-8796-04C077715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207-2164-4A30-847F-2C37955C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A97-8007-4DCD-BCB1-A320306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BAD-4156-4AF6-9E88-10364AE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D8B-CC03-4210-9213-34C0EF6A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F31-7831-46B0-8F2F-2C48479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F81-AFEA-4EC8-A2B0-E52BFA9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5875-5A26-4737-97D5-71AE467CE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92D-124E-4F68-9A30-4D95B8C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652-FA05-4ED7-B932-8C16EB3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21C-66B0-4514-A77B-A57CCFD0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44-995C-4B9C-A717-3DB4B74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13B-D641-4A7F-A0A6-E1153DE58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A8F8-CF2F-4054-931D-FAF41B51E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451F-01B4-4A40-830E-22DB84978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5A90-7E32-4708-8725-53DDCE850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F68A-E5AE-432C-9BCD-3FE8FCCE2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40BB-9524-480B-B270-0EE3251C1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73B5-3D34-4F8E-96E5-1C2A10A5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E128-CED9-4DEF-ADEC-7EE209B15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CF5-4E17-4C09-A99F-F1704195B572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112040" y="1143000"/>
            <a:ext cx="47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상황에 맞는 메모방법을 찾아라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녹음기로 메모할 경우 주의 사항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지 사용시 주의사항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할 수 없는 상황 대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 해서는 안 되는 내용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000080" y="66913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예절을 잘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상황에 적합한 메모방법을 판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84280" y="3643200"/>
            <a:ext cx="28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업무상황에 맞는 메모방법을 찾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’를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녹음을 해서는 안 되는 경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최 측이 비공개나 녹음 금지를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요청한 회의나 세미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외부업체와 하는 각종 비즈니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회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외부인사를 초청해 개최한 강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286000" y="4888080"/>
            <a:ext cx="2209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지 선택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구점에서 판매하는 색메모지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활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면지 활용시는 반듯하게 잘라서 사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녹음기도 하나의 메모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부를 하거나 아이디어를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메모하는 데 녹음기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걸어다니거나 사무실 바깥에서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메모를 할 때 녹음기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357200" y="2149560"/>
            <a:ext cx="221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할 수 없는 상황 대처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요 내용과 키워드 암기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황종료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즉시 메모로 복기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해서는 안되는 내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중요정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통장이나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신용카드 비밀번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이 들려주는 사적이거나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중요한 정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0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2240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160020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상황별 메모 도구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447920" y="2303640"/>
            <a:ext cx="4343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어쩔 수 없이 중요하여 회의를 녹음한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녹음을 할 때도 다른 사람이 알아차릴 수 없도록 하며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녹음한 내용도 자신만 업무활용용으로 사용하여야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평소 사용하던 메모지가 없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새 복사용지를 적당한 크기로 잘라서 사용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메모장 없이 갑자기 상사에게 호출당하여 지시를 받게된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중요 지시사항을 듣고 자신의 이해도를 상사에게 직접 확인하고 포인트만 기억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직장동료와 비밀이야기를 하는데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뭔가 적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상대방이 눈치채지 않도록 화제를 다른 곳으로 돌리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자신의 신용카드나 통장 비밀번호 관리요령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메모장의 뒷면에 자신만이 사용하는 약어나 기호를 활용하여 적는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6:32Z</dcterms:modified>
  <cp:revision>9</cp:revision>
  <dc:subject/>
  <dc:title>슬라이드 1</dc:title>
</cp:coreProperties>
</file>