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2528-BE0B-4B27-B370-FCA5E280B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60A8-6919-4A2A-BFD4-B84FC6C08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C00C-95D8-42E8-A031-CEB37D164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CA2F-AEF9-4F44-B604-638CC3351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A63-3817-40EA-B3A2-FBE3ACC60E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B0D-D4C7-43F1-9576-3CAA3AAB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133-C315-4FA8-B16A-FA223D3F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EA5-2558-4EF5-8BE1-6617315B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679-F4EC-4CC8-BE8A-649BF2AD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991-26F2-4108-B8D1-EC164E4F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93A-E5EA-4ECA-941E-8BDD86EA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FB6D-7D18-46C0-8098-F13D8140F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59E-E04F-4014-9FC7-9D0E4D75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922-CD29-44DE-B8C5-13719CDC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A2C-D0FA-4180-8ED4-460CD4E2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DA9-E120-4A42-9292-DC4A935D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A4B-B5DC-4CC5-A0B4-448B685B79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A883-03C6-41D2-94A4-213885F3B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E853-F2D9-496C-9236-1559655D6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B667-70A5-4588-9D0E-4A1AD5577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B8CF-C7D1-4712-A602-D046B5086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A11E-394E-4EE9-A3F1-15C0195A8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A955-328B-49BE-86CF-E88C77E9D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4C15-6E37-49C6-B3E0-2E1BD4351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A53F-5825-401D-8B18-27EA885B934A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285840" y="129060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업무상황에 맞는 메모방법을 찾아라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업무를 시작하기 전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효율성을 높여주는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회의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협상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보고서를 위한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기획서를 위한 음성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785880" y="6548400"/>
            <a:ext cx="5500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효율성을 높여주는 메모의 방법을 이해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회의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협상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보고서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기획서를 위한 메모의 방법을 적용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62320" y="3686040"/>
            <a:ext cx="285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업무 상황에 맞는 메모 방법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찾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효율성을 높여주는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한눈에 상황을 파악할 수 있도록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만의 메모 방법을 만든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회의할 때의 메모 요령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커다란 대학노트를 준비하여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참가자별로 페이지를 등분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각자 발표한 의견과 반론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발언자 난에 순서대로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나중에 다시 읽으며 중요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발언에 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협상할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말한 사람은 알파벳으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이야기한 내용은 모두 적지 말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단어만 표기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그림으로 그려도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305080"/>
            <a:ext cx="2133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업무를 시작하기 전 머릿속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정리하는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의 기분이나 심적 상태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적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처리할 일의 리스트를 작성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의 우선순위를 정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스케줄이 변경될 때를 대비하여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계획을 세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1214280" y="1692360"/>
            <a:ext cx="2340000" cy="24508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782880" y="1692360"/>
            <a:ext cx="2360880" cy="24508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6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1268280" y="2149560"/>
            <a:ext cx="2362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세미나에 참가한 결과를 보고서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작성하기 위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세미나의 핵심 내용을 파악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목적과 성과를 알 수 있도록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작성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별도의 수첩에 기록하지 말고 주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측이 배포한 자료에 직접 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첩에 메모할 때는 미리 목적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성과를 생각하여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핵심만 기록한 보고서는 핵심만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요약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리한 메모에서 비롯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3782880" y="2225520"/>
            <a:ext cx="23623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음성 메모의 순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하는 것이 부담된다면 머릿속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생각을 먼저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녹음은 편하게 말할 수 있는 것부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시작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녹음하고 난 후 제목을 붙여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녹음 후에는 반드시 한 번은 제대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들어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듣고 정리하면서 문장을 쓰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능력을 기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8:26Z</dcterms:modified>
  <cp:revision>11</cp:revision>
  <dc:subject/>
  <dc:title>슬라이드 1</dc:title>
</cp:coreProperties>
</file>