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DA97-5EB2-4EB6-985B-CFB0127E2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5216-6FA1-4700-8AA8-770EA4CE5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A9FF-9D52-40A5-AAA8-8B0253364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A439-9B6E-426C-A448-7C3073875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458-4511-4A68-9DEF-4DBE77D22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666-3CD6-4419-AB6B-CDEF1A6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73C-2110-4889-8482-311F64F3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1F4-8E94-42FA-802B-262D07C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956-D1F4-4400-8501-36924964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9F8-9FD1-4C9F-8517-90430D27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73C-4657-4FC0-AABA-F147E7E4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909F-D17C-4927-A80C-16367D0A3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41C-D8C8-4D1E-BC5B-AE365D46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969-3BCE-4D96-B7C3-51A42E11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BB1-A639-4B11-AD22-2C72F47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6DA-970E-4858-9751-5A7140F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B34-7B21-4F63-B5A2-F8B2074A8E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BB5F-B629-465D-958D-94E1DC24D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6FC0-3B3E-424C-A9BC-929D43815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1F33-2F40-4DC9-B5CE-F0087EFB4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8CE3-BD32-4FE7-8F24-A0B814DA7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CF20-7FE6-4B6B-91DA-C1496AF4F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7095-0EE7-4550-9FA5-1A4CB371A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F049-39AE-43E7-A3BA-88F4224CC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EC16-57B2-49A1-B7CA-D74DBF307718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279800" y="706320"/>
            <a:ext cx="354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6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첩보와 정보의 구별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첩보수집경로와 관리하는 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분석방법론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의 질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Quality)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생산 노하우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평소에 정보를 잘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에 도움이 되는 정보를 생산할 수 있다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고품질의 정보유지 능력을 보유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617120" y="36860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메모로 자기경쟁력을 키우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첩보수집경로와 관리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양한 경로로부터 오기 때문에 항상 주의력을 집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양한 경로에 관련된 메모는 코드번호를 부여하여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분석 방법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확한 문제 설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제기된 문제에 가설 설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을 검증하기 위하여 첩보 수집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 평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 중에 최선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최적의 가설 선택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6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속적인 검증과 모니터링 필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43000" y="2143080"/>
            <a:ext cx="2133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첩보와 정보의 구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Data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특정 목적에 의해 평가되거나 가공되지 않은 단순한 사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fact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첩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Information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성을 가지고 의도적으로 수집한 사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fact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Intelligence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책적 목적을 가지고 분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ᆞ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평가된 가공된 지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knowledge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357200" y="2149560"/>
            <a:ext cx="2273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의 질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(Quality)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적합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relevance)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적시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timeliness)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정확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accuracy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객관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objectivity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21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생산 노하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을 충분히 이해하도록 준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을 객관적인 입장에서 작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장황하지 않지만 알기 쉽게 풀어 쓸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간단명료하고 체계적인 설명으로 문맥 구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971640"/>
            <a:ext cx="1143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051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60020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메모로 키우는 자기경쟁력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447920" y="2286000"/>
            <a:ext cx="4343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첩보수집경로 분류는 최대한 간단하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처음에는 업무와 비업무로 구분하여 관리하다가 분류작업이 익숙하여 지면 상세하게 구분하는 것이 좋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정보분석시 첩보가 부족할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현재 상황에서 수집한 첩보로 분석하여 정보를 생산하되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결론을 짓지 않고 변화상황을 적절하게 모니터링 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정보내용과 상급자의 의중이 배치될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무조건 정보내용을 주장하지 말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다른 가능성을 인지하는 것이 도움이 되지 않느냐는 식으로 대안을 제시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보고서 작성시에 수요자의 배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보고서를 읽을 사람의 지적 수준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해당 업무의 이해도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시간적 여유 등을 고려하여 시각적 효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요약본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용어설명 등을 곁들이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6:43Z</dcterms:modified>
  <cp:revision>9</cp:revision>
  <dc:subject/>
  <dc:title>슬라이드 1</dc:title>
</cp:coreProperties>
</file>