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8D4E-BD77-4A09-A393-05254DFE5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E95F-D671-40AF-B799-082E0F35F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ECBA-DD0E-4333-9B19-EEDB29AFC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4E75-8249-4925-AAB5-CC2AA365C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4EC-BBE6-412E-A873-83A72C093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25A-49A6-4074-9FB0-7D34549B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789-CCC5-45DB-B9E1-21588089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5AF-80E3-4D1B-B430-5B875555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EAD-3F4A-4E9A-9678-B99192BE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3A7-3E13-48D3-A2CF-C520729E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9EC-ED6C-4589-AB58-DC95CECE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F5F4-E8DD-4FED-9DC4-D2F5BC7C8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A11-5009-40F0-8FE3-55D200C0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375-5A67-4E7D-B053-32E432BE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E53-733E-40BF-A969-A45EC2B7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10C-3AB0-42F2-9FF0-27B3982F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71F-E1B8-4BB6-B2B2-2F452DB4D8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11E9-BA4D-4C61-A6AA-4D7549FC5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97A9-11CD-46A8-A5FD-845E385F3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730A-9D20-45B0-AC13-04C3DB290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0EC6-1075-4958-9FD1-3DBA2941A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A37A-0753-4C41-951D-C5D88C31C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CF16-04B6-45D6-A518-07004CE0E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0EF4-9CD9-4718-AF6D-D95939D99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4758-B3BE-4EB5-813F-596D76F91E5A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006920" y="1219320"/>
            <a:ext cx="48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13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자기관리를 위한 메모습관을 만들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.(2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장으로 교양 쌓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장으로 업무지식 쌓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장으로 외국어 능력 향상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습관으로 감동 전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74880" y="66200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평소에 메모장으로 관심 있는 정보를 관리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기개발을 위한 정보를 메모장에 잘 정리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로 주위사람에게 인정을 받을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49720" y="3686040"/>
            <a:ext cx="27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기관리를 위한 메모습관’을 알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4768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633840" y="2152800"/>
            <a:ext cx="220968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장으로 업무지식 쌓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buClr>
                <a:srgbClr val="6c84fa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본인이 하는 업무를 항상 정리하여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조직 내부의 다른 사람의 업무를 파악하여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조직 외부의 인맥 등을 활용하여 업무를 파악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1147680" y="4888080"/>
            <a:ext cx="22100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장으로 외국어 배우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업무에 밀접하게 연관된 단어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&amp;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회화를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단어장을 가지고 활용을 많이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새로운 용어와 회화를 추가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ᆞ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보완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단어메모장을 항상 가지고 다니면서 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1143000" y="221472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장으로 교양 쌓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장에 새로운 내용이나 용어를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카테고리를 분류하여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속적으로 내용을 보완하거나 추가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648240" y="4357800"/>
            <a:ext cx="220968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643200" y="4815000"/>
            <a:ext cx="2291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습관으로 감동전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첫만남에서 얻은 개인정보를 자세히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미팅에서 돌아온 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 대화내용 등을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음 만남을 준비할 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존 메모를 충분히 검토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을 먼저 배려하고 서비스할 방법을 찾아서 나간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600200" y="155088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자기관리를 위한 메모습관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6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136600"/>
            <a:ext cx="4496040" cy="3507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4"/>
          <p:cNvSpPr/>
          <p:nvPr/>
        </p:nvSpPr>
        <p:spPr>
          <a:xfrm>
            <a:off x="1447920" y="2517840"/>
            <a:ext cx="434340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다양한 분야의 전문 교양 쌓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환경이나 정보통신 기술 등 분야의 전문서적을 구입하여 많이 사용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는 용어만 메모하여 전문가 포럼을 활용하여 배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다양한 인맥관리를 위한 메모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동종 업계나 다른 업종에 근무하는 선배나 후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포럼 등을 활용하여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르침을 배우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인간관계 관리를 잘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외국어 메모장은 독서카드를 사용한다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장은 너무 작으면 내용을 많이 정리하지 못하기 때문에 독서카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B6)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이즈가 적당하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사람관리 메모는 평소에 열심하여 습관화한다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위 사람을 평소부터 잘 관찰하여 메모하는 것을 습관화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람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관찰하는 것은 인간관계를 원활하게 하고 서비스를 하기 위한 것이라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것을 항상 명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4:51Z</dcterms:modified>
  <cp:revision>9</cp:revision>
  <dc:subject/>
  <dc:title>슬라이드 1</dc:title>
</cp:coreProperties>
</file>