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ECAE5-703B-427D-89E3-50FAC8FC8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18D9F-E553-48B5-9F4F-C669057E6B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48353-6C0E-45C5-BD93-1274F6628B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76ABC-75C2-4C41-A6E2-5E284820B5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4CA7-5FDF-4361-9FF6-048E7BCEFE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F77B-F4E0-46E7-86AE-B8282EED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DC76-AD76-4E9D-B8FD-93F1737E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5C2E-3113-44E7-9DB4-504F7DC6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C5EA-916E-45C0-BCF9-77AEAF25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EB41-D878-4804-A968-4EA89D78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EFAB-69C8-4233-BE13-D2F1E0DD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B0E8D-A493-4D32-A8FD-F5804BED39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C76D-1696-4416-9D0D-728ABE19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943F-6AA6-4357-854D-C1EFC39A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0B46-2D49-44BD-B6F4-70A60519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1754-5C35-4CFB-A6B4-3C1E93B9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4DA9-7E54-487D-AB53-10AD43DC2D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4F8DA-5AE0-4FC4-9330-5E5154E9AD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754C7-0110-4348-99F5-93012D4B40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AFA9E-49A5-4E40-82B5-4D1A7E6AA2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668AA-CB0F-4D76-885F-C207718B4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AAE2D-9D25-4F74-9CFA-FDE1D3D850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5047F-D5BC-4CA0-9C76-7AEAF21B7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D05BE-2088-4F60-9611-C3A8CDA59F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" name="직사각형 7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과정명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4C0B-FE24-4297-B5A9-C065B885DAFF}" type="slidenum">
              <a:rPr b="0" lang="ko-KR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사각형 6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2" name="직사각형 8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머리보다 손이 먼저 움직이는 메모의 기술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3" name="직사각형 9"/>
          <p:cNvSpPr/>
          <p:nvPr/>
        </p:nvSpPr>
        <p:spPr>
          <a:xfrm>
            <a:off x="320760" y="539640"/>
            <a:ext cx="6216480" cy="86043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bingo.naver.com/album/image_view.htm?user_id=bkahi84&amp;board_no=32414&amp;nid=8329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3"/>
          <p:cNvSpPr/>
          <p:nvPr/>
        </p:nvSpPr>
        <p:spPr>
          <a:xfrm>
            <a:off x="1329840" y="849240"/>
            <a:ext cx="354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8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차시 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조직생활에서 메모로 </a:t>
            </a: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              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자기경쟁력을 키우자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46280" y="6541920"/>
            <a:ext cx="5562360" cy="95904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746280" y="4027320"/>
            <a:ext cx="556236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898560" y="433224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</a:rPr>
              <a:t>책상 위의 메모관리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</a:rPr>
              <a:t>책상 앞의 메모관리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</a:rPr>
              <a:t>메모를 잃어버리지 않는 요령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</a:rPr>
              <a:t>메모심부름의 원칙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857160" y="6546960"/>
            <a:ext cx="4572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사무실에서 메모를 잘 분류하여 관리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171360" indent="-171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메모와 메모장을 항상 잘 관리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171360" indent="-171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메모심부름에 대한 예의를 지킬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89" name="Picture 11" descr="j0299549"/>
          <p:cNvPicPr/>
          <p:nvPr/>
        </p:nvPicPr>
        <p:blipFill>
          <a:blip r:embed="rId1"/>
          <a:stretch/>
        </p:blipFill>
        <p:spPr>
          <a:xfrm>
            <a:off x="4784760" y="4637160"/>
            <a:ext cx="1219320" cy="1155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1588680" y="3686040"/>
            <a:ext cx="319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‘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조직생활에서 메모로 자기경쟁력을 기우기’ 위한 발자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964440" y="620064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나는 할 수 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363384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2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109520" y="4370400"/>
            <a:ext cx="221004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3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3664080" y="437040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4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3633840" y="2152800"/>
            <a:ext cx="22096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책상 앞의 메모관리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7840" indent="-177840">
              <a:buClr>
                <a:srgbClr val="000000"/>
              </a:buClr>
              <a:buFont typeface="돋움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시한이 지났거나 처리한 업무 메모는 파기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7840" indent="-177840">
              <a:buClr>
                <a:srgbClr val="000000"/>
              </a:buClr>
              <a:buFont typeface="돋움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개인적인 일정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내용은 메모장으로만 관리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7840" indent="-177840">
              <a:buClr>
                <a:srgbClr val="000000"/>
              </a:buClr>
              <a:buFont typeface="돋움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중요 내용은 메모장의 별도공간에서 관리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1109520" y="4888080"/>
            <a:ext cx="2210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메모를 잃어버리지 않는 요령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원칙에 따라 일정한 장소에 보관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인지할 수 있을 정도로 큰 메모지나 메모장을 사용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자신의 관심 범위 내에서 관리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3664080" y="4827600"/>
            <a:ext cx="2361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메모 심부름의 원칙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7840" indent="-177840">
              <a:buClr>
                <a:srgbClr val="000000"/>
              </a:buClr>
              <a:buFont typeface="돋움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주의사항을 주지시켜 전달하게 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7840" indent="-177840">
              <a:buClr>
                <a:srgbClr val="000000"/>
              </a:buClr>
              <a:buFont typeface="돋움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중요 내용은 봉투에 넣은 후 전달하게 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7840" indent="-177840">
              <a:buClr>
                <a:srgbClr val="000000"/>
              </a:buClr>
              <a:buFont typeface="돋움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아주 중요하다면 본인이 직접 전달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112392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1200240" y="2143080"/>
            <a:ext cx="2133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책상 위의 메모관리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중요하거나 사적인 것은 책상서랍에 보관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책상 위에 둘 경우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남에게 보이지 않게 해라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퇴근 및 외출 등 자리를 비울 시 가지고 간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1278720" y="1847880"/>
            <a:ext cx="59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1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189000" y="468360"/>
            <a:ext cx="36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oint </a:t>
            </a:r>
            <a:r>
              <a:rPr b="1" lang="ko-KR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학습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2" name="Line 24"/>
          <p:cNvSpPr/>
          <p:nvPr/>
        </p:nvSpPr>
        <p:spPr>
          <a:xfrm>
            <a:off x="264960" y="1101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5"/>
          <p:cNvSpPr/>
          <p:nvPr/>
        </p:nvSpPr>
        <p:spPr>
          <a:xfrm>
            <a:off x="380880" y="762120"/>
            <a:ext cx="1905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lus One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4" name="Line 27"/>
          <p:cNvSpPr/>
          <p:nvPr/>
        </p:nvSpPr>
        <p:spPr>
          <a:xfrm>
            <a:off x="457200" y="1395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105" name="Picture 2" descr="bkahi84_2">
            <a:hlinkClick r:id="rId1"/>
          </p:cNvPr>
          <p:cNvPicPr/>
          <p:nvPr/>
        </p:nvPicPr>
        <p:blipFill>
          <a:blip r:embed="rId2"/>
          <a:srcRect l="0" t="0" r="51709" b="35003"/>
          <a:stretch/>
        </p:blipFill>
        <p:spPr>
          <a:xfrm>
            <a:off x="1066680" y="2065320"/>
            <a:ext cx="4496040" cy="350676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6"/>
          <p:cNvSpPr/>
          <p:nvPr/>
        </p:nvSpPr>
        <p:spPr>
          <a:xfrm>
            <a:off x="1600200" y="1479600"/>
            <a:ext cx="22860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사무실에서의 메모관리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1447920" y="2446200"/>
            <a:ext cx="434340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책상 위의 정리정돈은 항상 철저히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책상 위를 잘 정돈하는 사람은 실수가 적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그리고 그런 사람의 책상 위에 중요 문서가 있어도 보려고 하지 않는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이미 잘 정리되어 있어서 펼쳐진 것은 중요한 것이 아니라고 생각하기 때문이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컴퓨터 모니터는 시급한 업무만 붙인다</a:t>
            </a: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아주 급박한 업무만 모니터에 붙여두면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자기 최면이 되어서 놓치지 않고 처리를 할 수 있게 된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파티션에는 연간목표와 조직도만 붙인다</a:t>
            </a: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파티션에 연간목표를 붙여두면 시각적인 효과도 좋고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다른 사람에게 업무에 충실하다는 인상을 줄 수도 있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또한 조직도 붙여 두면 업무 협조나 부서간 업무 분장 시에도 활용하기 좋다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일수수첩이나 포켓 수첩은 가급적 사용하지 말자</a:t>
            </a: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일수수첩은 시장 아주머니가 생각나고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포켓수첩을 꺼내어서 깨알 같이 메모를 하면 사람이 속 좁아 보이는 경우가 많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4:42:06Z</dcterms:created>
  <dc:creator>강형구</dc:creator>
  <dc:description/>
  <dc:language>en-US</dc:language>
  <cp:lastModifiedBy>a</cp:lastModifiedBy>
  <dcterms:modified xsi:type="dcterms:W3CDTF">2008-10-09T02:12:52Z</dcterms:modified>
  <cp:revision>9</cp:revision>
  <dc:subject/>
  <dc:title>슬라이드 1</dc:title>
</cp:coreProperties>
</file>