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DFA2-31A6-450A-BEAD-1A1E56FD3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FFFB-9251-482F-8DA4-4F359C2FD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4ED1-4FC6-4024-AC97-117A94A08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BDA4-E7B3-49A3-9122-1EF70A029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5D2E-80E7-4DCD-8447-49CBF3CC07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30D-0F7A-4BCA-B26B-FB7365EE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8A3-DE4F-4E43-91C9-7D259058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8F6-518B-4193-A80C-CC221E02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C461-12C6-48D0-89A2-9182080E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161-DAAA-4766-814D-9A93B6C3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0BF-DB36-48D3-AF40-E8A2D3B8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CE727-A938-4FDE-9D2C-487AECD4A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D0F-C643-4BE1-AFF1-DB648CE4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337-6E89-4128-B3FF-A6C0EB29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1E1-F5DE-4C27-AB2F-254587CC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FF3-4E4A-4051-8950-092C77D5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FFD-5030-4405-96F1-25BF42D34A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7402-CF6C-4622-BEBC-1C15E8D49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7BD6-BFB1-4055-B30F-C119BF0CF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13D8-AF0B-4AA1-8B24-B256A42FA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3257-1C9C-4EF2-93B0-8FEBA160C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0153-B2A2-4356-AE5C-E461ACDAD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9037-FB14-4592-AE9E-3FDCF2B4C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1D0D-F050-4409-A756-09B20ED0C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19DD-299E-4522-86A0-3143187E90DF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1636560" y="1143000"/>
            <a:ext cx="21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2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메모의 기술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062240"/>
            <a:ext cx="457200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언제 어디서든 메모하라</a:t>
            </a:r>
            <a:r>
              <a:rPr b="0" i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주위 사람들을 관찰하라</a:t>
            </a:r>
            <a:r>
              <a:rPr b="0" i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기호와 암호를 활용하라</a:t>
            </a:r>
            <a:r>
              <a:rPr b="0" i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중요 사항은 한 눈에 띄게 하라</a:t>
            </a:r>
            <a:r>
              <a:rPr b="0" i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메모하는 시간을 따로 마련하라</a:t>
            </a:r>
            <a:r>
              <a:rPr b="0" i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메모를 데이터베이스로 구축하라</a:t>
            </a:r>
            <a:r>
              <a:rPr b="0" i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메모를 재활용하라</a:t>
            </a:r>
            <a:r>
              <a:rPr b="0" i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974880" y="67705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의 기술 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7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가지를 실천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262880" y="3686040"/>
            <a:ext cx="252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굴림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의 기술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7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가지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’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를 알기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09520" y="4370400"/>
            <a:ext cx="221004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6408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633840" y="2152800"/>
            <a:ext cx="2209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주위 사람들을 관찰하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을 잘하는 사람을 관찰하고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따라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을 잘하는 사람과 자신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비교할 수 있는 일람표를 만들어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회의 내용이 지루하면 다른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람들을 관찰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109520" y="4888080"/>
            <a:ext cx="2210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기호와 암호를 활용하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에 글자만 쓰란 법은 없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신에게 맞는 ‘기호’와 ‘암호’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고안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664080" y="4827600"/>
            <a:ext cx="2361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중요 사항은 한눈에 띄게 하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한 사항에는 밑줄을 긋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좀 더 중요한 사항은 동그라미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표시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삼색 볼펜을 사용해 내용과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도를 구분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한 내용은 별도로 요약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200240" y="2305080"/>
            <a:ext cx="2133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언제 어디서든 메모하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목욕할 때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산책할 때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잠들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전 등 언제 어디서든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늘 지니고 다니는 것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늘 보이는 곳에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1344600" y="1692360"/>
            <a:ext cx="220968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5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782880" y="1692360"/>
            <a:ext cx="221004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6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643120" y="4414680"/>
            <a:ext cx="2286000" cy="2443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7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57200" y="2149560"/>
            <a:ext cx="2143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하는 시간을 따로 마련하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만을 목적으로 하는 시간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갖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부러 커피숍을 찾거나 생각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정리해 주는 여행을 떠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하루에 한 번이라도 수첩과 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을든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3786120" y="2214720"/>
            <a:ext cx="22147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데이터베이스로 구축하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는 어떤 형태로든 남겨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를 모아 책 한 권으로 만든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와 자료를 주제별로 문서 보관 상자에 넣어 데이터베이스화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714760" y="4694400"/>
            <a:ext cx="25002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재활용하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예전의 메모를 다시 읽어보는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습관부터 기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한 것들은 날짜별 혹은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제별로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정리된 메모를 문서 보관 상자에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보관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다시 읽을 때는 느낀 점이나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아이디어를 다른 색 펜으로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적어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8"/>
          <p:cNvSpPr/>
          <p:nvPr/>
        </p:nvSpPr>
        <p:spPr>
          <a:xfrm>
            <a:off x="3286080" y="147636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회의 내용이 지루할 때는 이런 메모를 해 보라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2133720" y="971640"/>
            <a:ext cx="11430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15" name="Picture 1036" descr="bkahi84_2"/>
          <p:cNvPicPr/>
          <p:nvPr/>
        </p:nvPicPr>
        <p:blipFill>
          <a:blip r:embed="rId1"/>
          <a:srcRect l="0" t="0" r="51709" b="35003"/>
          <a:stretch/>
        </p:blipFill>
        <p:spPr>
          <a:xfrm>
            <a:off x="1000080" y="2357280"/>
            <a:ext cx="4495680" cy="4429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46"/>
          <p:cNvSpPr/>
          <p:nvPr/>
        </p:nvSpPr>
        <p:spPr>
          <a:xfrm>
            <a:off x="1724400" y="2641680"/>
            <a:ext cx="8085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이름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직위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언어 습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사고방식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자주하는 행동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일에 대한 의욕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인간성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신뢰도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7" name="Text Box 1047"/>
          <p:cNvSpPr/>
          <p:nvPr/>
        </p:nvSpPr>
        <p:spPr>
          <a:xfrm>
            <a:off x="2705040" y="2625840"/>
            <a:ext cx="243864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김ㅇㅇ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과장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의견개진을 자주 함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주로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HY엽서L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제 생각에는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HY엽서L"/>
              </a:rPr>
              <a:t>…’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으로 발언을 시작한다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긍정적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활동적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자신이 맡은 일에 책임감이 강하다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다른  사람이 의견을 말할 때 메모하고 거기에 자신의 의견을 적어둔다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적극적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책임의식이 강한 편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일에 관해서는 깐깐한 편이나 일상 생활에서는 부드러운 편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아주 믿을 만하다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7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133720" y="971640"/>
            <a:ext cx="11430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21" name="Picture 1026" descr="http://bingoimage.naver.com/data/bingo_31/imgbingo_89/bkahi84/32414/bkahi84_2.jpg"/>
          <p:cNvPicPr/>
          <p:nvPr/>
        </p:nvPicPr>
        <p:blipFill>
          <a:blip r:embed="rId1"/>
          <a:srcRect l="0" t="0" r="51709" b="35003"/>
          <a:stretch/>
        </p:blipFill>
        <p:spPr>
          <a:xfrm>
            <a:off x="1000080" y="2422440"/>
            <a:ext cx="4495680" cy="46497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030"/>
          <p:cNvSpPr/>
          <p:nvPr/>
        </p:nvSpPr>
        <p:spPr>
          <a:xfrm>
            <a:off x="1609560" y="1622520"/>
            <a:ext cx="2286000" cy="53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중요한 내용을 표시하는 메모의 예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3" name="Rectangle 1043"/>
          <p:cNvSpPr/>
          <p:nvPr/>
        </p:nvSpPr>
        <p:spPr>
          <a:xfrm>
            <a:off x="1424160" y="2673360"/>
            <a:ext cx="35049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메모하는 방법은 사람에 따라 다르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키워드로 나타낸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예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중요한 사항에는 밑줄을 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좀 더 중요한 사항은 동그라미로 표시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5.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삼색볼펜을 사용해 내용과 중요도를 구분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4" name="Text Box 1044"/>
          <p:cNvSpPr/>
          <p:nvPr/>
        </p:nvSpPr>
        <p:spPr>
          <a:xfrm>
            <a:off x="1905120" y="3600360"/>
            <a:ext cx="2971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기획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가격 산정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H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에게 ㅇㅇ건 메일 보내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0:54:07Z</dcterms:modified>
  <cp:revision>10</cp:revision>
  <dc:subject/>
  <dc:title>슬라이드 1</dc:title>
</cp:coreProperties>
</file>