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45A0-2B56-4166-8064-B3CC2123D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8D6D-D85A-412C-B341-1C5D4D5F3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FB7E-984B-4BD8-B760-8D29223B8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F13C-FA5F-40C3-9B02-D3397B147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5D4-00B7-4BD1-BB1C-2DF12E119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D07-BB4F-46CA-95CD-41873869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DC1-16FD-42FB-A83F-9AEE079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360-0D0A-4341-B9EC-4FE7F0B3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A39-EF75-496A-971C-18CA2BFA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B17-2261-4CF4-BDA7-8251724B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40C-8C96-4552-9200-6167542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AB83-62FD-4C42-8D12-451A0A4C3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753-FBC8-4CA4-A8D8-70EAED9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F4D-7476-48F7-9B5F-EC9EA1B9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444-4B00-4AA4-844E-505A427C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1AC-84F2-455C-A375-2DF534C2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D66-7B70-42ED-B143-6F8F971076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A3DE-67C4-4919-9AFB-3D3F833DD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F1BD-EE21-4F28-88A5-A79D4557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0D19-2966-4207-8BA2-717D484A4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8420-100C-45DD-B295-EA8F660CB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B8D4-B0CD-4497-A271-96F3C32EB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88C9-5ECE-4E97-AA5A-CE88827F0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B14D-466C-4B78-9BCE-FEC7C82A6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FCE3-82E4-469D-A787-AAE4BFEEEB33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006920" y="121932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2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공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ᆞ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로 분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중요도에 따라 분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이중으로 메모내용 관리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복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복사하는 요령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파기하는 요령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개인적인 메모와 업무 메모를 잘 분류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중요한 메모를 절대 잃어버리지 않고 챙길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없앨 것인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관할 것인지 판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49720" y="3686040"/>
            <a:ext cx="27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습관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중요도에 따라 분류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중요한 것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빨간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약간 중요한 것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파란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심을 가져야 할 내용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검은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이중으로 메모 내용 관리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프레드 쉬트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소록 등을 상세하게 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서작성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이나 일반 메모 정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미지관리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메모지를 이미지로 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공</a:t>
            </a:r>
            <a:r>
              <a:rPr b="0" lang="en-US" sz="1000" spc="-1" strike="noStrike">
                <a:solidFill>
                  <a:srgbClr val="f3a447"/>
                </a:solidFill>
                <a:latin typeface="굴림"/>
                <a:ea typeface="굴림"/>
              </a:rPr>
              <a:t>ᆞ</a:t>
            </a:r>
            <a:r>
              <a:rPr b="0" lang="ko-KR" sz="1000" spc="-1" strike="noStrike">
                <a:solidFill>
                  <a:srgbClr val="f3a447"/>
                </a:solidFill>
                <a:latin typeface="굴림"/>
                <a:ea typeface="굴림"/>
              </a:rPr>
              <a:t>사로 분류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에 내용 중 사적인 것은 박스로 표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업무에 관련된 내용을 위주로 정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과 사를 별개의 공간에 구분하여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1476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892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143000" y="2149560"/>
            <a:ext cx="2290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복제</a:t>
            </a:r>
            <a:r>
              <a:rPr b="0" lang="en-US" sz="1000" spc="-1" strike="noStrike">
                <a:solidFill>
                  <a:srgbClr val="f3a447"/>
                </a:solidFill>
                <a:latin typeface="굴림"/>
                <a:ea typeface="굴림"/>
              </a:rPr>
              <a:t>ᆞ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복사하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복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내용을 변조하거나 위조하지 말 것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정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메모는 상황 설명 코멘트를 달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복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관관계가 있는 것 끼리 모아서 관리하는 편한 크기의 용지로 복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362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파기하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파기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단기로 처리할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소각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양은 재떨이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많을 경우 야외 공터에서 소각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버리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단기로 처리하였거나 소각한 쓰레기는 검은 봉투에 넣어서 버릴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136600"/>
            <a:ext cx="4496040" cy="3507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1447920" y="2517840"/>
            <a:ext cx="434340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개인적인 일은 메모장의 뒷 장부터 활용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일과 업무 구분을 명확하게 하고자 하는 사람은 수첩의 뒷 장에서 부터 거꾸로 개인적인 내용을 메모하면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컴퓨터에 저장한 내용도 이중으로 관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컴퓨터도 만능이 아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저장한 데이터가 실수로 삭제되기도 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갑자기 컴퓨터가 다운되어 파일 복구가 어려울 수도 있으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내용은 외장 하드나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USB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저장장치에 예비로 저장하여 관리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메모를 복사할 때도 관련 있는 것 끼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를 모아서 복사할 때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이 같거나 시간 순 등으로 나열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 복사하여 메모장 크기로 잘라서 붙여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태운 재도 다시 한번 더 확인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를 완전하게 소각하기는 어려우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탄 재에 물을 부어 형체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없애 버리면 재를 복구하기 어렵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1600200" y="155088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자기관리를 위한 메모습관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0:57Z</dcterms:modified>
  <cp:revision>8</cp:revision>
  <dc:subject/>
  <dc:title>슬라이드 1</dc:title>
</cp:coreProperties>
</file>