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B9AC-097D-4EA9-AC7E-44325F88E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E528-6193-4E71-88C0-47DE8124D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1E1C-D9FD-4F3F-97CA-9087F5895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62CF-A028-4056-83F6-4B8D22BC1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721-AB18-4CF0-B755-E0EC749682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69D-8C0F-41BD-9CDC-D424512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1A9-B2CB-4198-BD83-C6C7F7F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C0C-01C3-471C-9CEE-2A5BEEF5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ABB-26A8-481A-9107-A9CF0BF6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019-942D-4C41-B822-455BE67D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E8C-6F3A-4729-9DDA-A2A16C7D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B8F1-244B-4A49-B68E-721A095EA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0E9-BE92-4FFC-AB0D-D3177576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445-5CA4-4088-BB30-6F8B6C6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ACB-1205-4BD4-8277-BCE6F08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E6E-318E-4582-93DC-028ED4DB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BEC-9B2B-4CBA-B2BF-FC66E9D49D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22CB-3362-4250-AF01-F047289F9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D6FA-8472-45B7-9082-8EC92228A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FE2C-926D-402A-810C-A2E34C1F1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4670-8212-4CAE-B7A9-D8AA12AC3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0424-E8FF-4EFF-90E8-1D5C77441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4A7A-59C7-4E34-96DD-7C7ECE4FE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C05B-9E01-4325-B754-7E90AA127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3177-CF56-46A7-A76C-6AB13895FDE4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928800" y="9288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7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경쟁력을 키우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 내부첩보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 외부첩보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원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출처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리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경영징후 진단을 위한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572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 내부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외부의 정보원을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중요한 정보원을 잘 보호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심 조직의 경영상태를 진단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746280" y="3686040"/>
            <a:ext cx="53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</a:rPr>
              <a:t>자기경쟁력을 키우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조직 외부 첩보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언론 등 공개정보를 수집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친분 등을 활용하여 직접 정보내용을 검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집된 정보를 객관적으로 검토하여 판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원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(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출처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)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관리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니셜을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보의 질을 떨어뜨린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능하면 최대한 보안유지를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경영징후 진단을 위한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소한 일이라도 중요한 징후가 발생하면 메모한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징후의 원인이 무엇인지 메모하여 본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원인에 대한 해결책은 있는지 메모한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동료와 대화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급자와 상담 등 자신의 행동요령을 메모하여 실천한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43080"/>
            <a:ext cx="2133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조직 내부첩보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사 건물과 관련된 직원과 대화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사 공용 공간 방문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직원이 애용하는 외부 식당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술집 방문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5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0653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메모로 키우는 자기경쟁력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447920" y="2446200"/>
            <a:ext cx="43434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른 회사의 내부정보 입수 방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우리 회사의 내부정보를 입수하는 방법과 동일하지만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정보원에 접근하는 방법을 잘 수립하여야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른 회사의 외부정보 입수방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상장회사의 경우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각종 공시나 언론 보도 등 공개정보와 협력회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관계기관의 담당자 등과의 커뮤니케이션으로 확보가 가능하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최상의 고급정보를 항상 입수할 수 있는 노하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한번 확보한 정보원은 철저하게 보호하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가급적 정보에 대한 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ᆞ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무형의 댓가를 제공하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조직과 경영진의 부실 징후를 메모하였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합리적인 대안을 고민하여 제시하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조직과 상급자에 맹목적으로 충성하는 사람보다 더 대우를 받을 수 있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01:18Z</dcterms:modified>
  <cp:revision>8</cp:revision>
  <dc:subject/>
  <dc:title>슬라이드 1</dc:title>
</cp:coreProperties>
</file>