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6344-0D8D-4A42-AFFB-FA8124647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D634-C132-45E4-9A27-1947F7A4C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A8FD-60A8-4261-B21D-A6DAAE658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DEAD-6100-41FE-AC05-234DE0C8B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C98-0A23-4CB3-A962-5DBE49C35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292-4678-4F22-8D68-52DC4DBD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3DC-1A15-47E1-9645-93E4F4FF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A57-F16C-4B4A-B7C1-0164D0CE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D04-F0DE-449B-B8AB-F0863654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672-2F1C-4099-B2AC-F7EEE597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9BD-0ED8-42EB-995F-33B2367A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223B-1EF6-4CDA-9829-4D9939CB4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17C-2E9D-4370-B01E-A955FF42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932-EEE1-4FCD-AE8C-E4FE2828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3BD-DB17-4D63-BE28-C90E447A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C77-91EA-48EB-B7EA-C3EC226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F9A-4E98-49CD-BC22-FA9B1A14AD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8A16-F90E-4637-AB1A-542FF19A8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08D9-DBC4-4369-95B1-07D7E90D9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04D3-C909-4F0D-8D5B-FC07D37EF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45AE-BBDE-4E44-B415-548FF0903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6420-3D39-4437-839A-014056D21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32D5-56A1-4EDD-9D9D-ED253BBFB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3F6C-C59F-43BC-BCA9-875E6A105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C828-1E40-4579-B884-65605544E8D4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214200" y="114300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관리를 위한 메모 습관을 만들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(3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214880"/>
            <a:ext cx="4572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마음의 안정을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아이디어가 떠올랐을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스트레스 해소를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하루의 일과를 정리하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기와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꿈속에서 영감을 얻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신을 돌아보며 하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770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관리를 위한 메모 습관들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58360" y="3686040"/>
            <a:ext cx="285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관리를 위한 메모 습관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아이디어가 떠올랐을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시공간을 가리지 않고 떠오르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이디어는 시공간을 가리지않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의나 협상 중에도 아이디어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생각나면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TPO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의 요령에 따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위 사람들에게 들은 기억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만한 말과 그때의 느낌을 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스트레스를 해소하기 위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커다란 종이에 화나는 이유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트레스의 원인을 나열해 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쇼핑백에 큰 글씨로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라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쓰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것을 양손으로 찢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직서를 쓰고 자신이 정말 하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싶은 일을 작성해 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하루의 일과 정리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왼쪽에 그날의 할 일을 기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오른쪽에 실제로 어떻게 했는지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것은 계획을 세우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계획대로 실행했는가 하는 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지를 함께 확인하는 것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143080"/>
            <a:ext cx="21333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마음의 안정을 위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목적이 확실치 않아도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작은 것부터 시작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기를 쓰지 않는다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잠들기 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날 있었던 일을 짤막하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록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782880" y="1692360"/>
            <a:ext cx="22892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6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421000" y="4343400"/>
            <a:ext cx="2293920" cy="2639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7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57200" y="2149560"/>
            <a:ext cx="2273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위한 일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기는 메모하는 습관을 기르기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위한 첫걸음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기에 쓸 일이 없을 때에도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오늘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무것도 하지 않았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라고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신문 기사를 쓰더라도 매일 노트를 펼치는 습관을 들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782880" y="2225520"/>
            <a:ext cx="23608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꿈속에서 영감 얻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꿈을 꾼 날은 눈뜨자마자 꿈 내용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록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꾸고 싶은 꿈이 있다면 잠들기 전에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꾸고 싶은 꿈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을 써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428920" y="5000760"/>
            <a:ext cx="2743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자신을 돌아보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하고 싶은 순위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0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과 ‘되고 싶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순위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0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을 한 달에 한 번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13" name="Picture 87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39868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9"/>
          <p:cNvSpPr/>
          <p:nvPr/>
        </p:nvSpPr>
        <p:spPr>
          <a:xfrm>
            <a:off x="2286000" y="160956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회의 중 아이디어가 떠올랐을 때 메모의 예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Rectangle 96"/>
          <p:cNvSpPr/>
          <p:nvPr/>
        </p:nvSpPr>
        <p:spPr>
          <a:xfrm>
            <a:off x="453600" y="300816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주제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상대방의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이름 등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6" name="Text Box 103"/>
          <p:cNvSpPr/>
          <p:nvPr/>
        </p:nvSpPr>
        <p:spPr>
          <a:xfrm>
            <a:off x="1967040" y="2562120"/>
            <a:ext cx="1528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세미나 개최에 대해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A</a:t>
            </a:r>
            <a:r>
              <a:rPr b="1" lang="ko-KR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공업 </a:t>
            </a:r>
            <a:r>
              <a:rPr b="1" lang="en-US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M</a:t>
            </a:r>
            <a:r>
              <a:rPr b="1" lang="ko-KR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사장과 협의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Text Box 104"/>
          <p:cNvSpPr/>
          <p:nvPr/>
        </p:nvSpPr>
        <p:spPr>
          <a:xfrm>
            <a:off x="4268160" y="2475000"/>
            <a:ext cx="49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5/30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Text Box 105"/>
          <p:cNvSpPr/>
          <p:nvPr/>
        </p:nvSpPr>
        <p:spPr>
          <a:xfrm>
            <a:off x="2110320" y="338940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  기술 세미나를 열고 싶다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  대상자는 기술자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9" name="Text Box 106"/>
          <p:cNvSpPr/>
          <p:nvPr/>
        </p:nvSpPr>
        <p:spPr>
          <a:xfrm>
            <a:off x="2798280" y="3846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경영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Text Box 107"/>
          <p:cNvSpPr/>
          <p:nvPr/>
        </p:nvSpPr>
        <p:spPr>
          <a:xfrm>
            <a:off x="2018160" y="4456080"/>
            <a:ext cx="8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  배포 자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  이야기 방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1" name="Text Box 108"/>
          <p:cNvSpPr/>
          <p:nvPr/>
        </p:nvSpPr>
        <p:spPr>
          <a:xfrm>
            <a:off x="3937680" y="4836960"/>
            <a:ext cx="86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장소가 좁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마이크는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사용하지 않는다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2" name="Text Box 109"/>
          <p:cNvSpPr/>
          <p:nvPr/>
        </p:nvSpPr>
        <p:spPr>
          <a:xfrm>
            <a:off x="1712160" y="5065560"/>
            <a:ext cx="70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페이지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분량 정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3" name="Text Box 110"/>
          <p:cNvSpPr/>
          <p:nvPr/>
        </p:nvSpPr>
        <p:spPr>
          <a:xfrm>
            <a:off x="2835360" y="5446800"/>
            <a:ext cx="67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참가자 명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차후 팩스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4" name="Freeform 111"/>
          <p:cNvSpPr/>
          <p:nvPr/>
        </p:nvSpPr>
        <p:spPr>
          <a:xfrm>
            <a:off x="3733920" y="4913280"/>
            <a:ext cx="152280" cy="166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5" name="Freeform 112"/>
          <p:cNvSpPr/>
          <p:nvPr/>
        </p:nvSpPr>
        <p:spPr>
          <a:xfrm>
            <a:off x="1600200" y="5141880"/>
            <a:ext cx="152280" cy="166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6" name="Freeform 113"/>
          <p:cNvSpPr/>
          <p:nvPr/>
        </p:nvSpPr>
        <p:spPr>
          <a:xfrm>
            <a:off x="1852560" y="2781360"/>
            <a:ext cx="1841400" cy="889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7" name="Freeform 115"/>
          <p:cNvSpPr/>
          <p:nvPr/>
        </p:nvSpPr>
        <p:spPr>
          <a:xfrm>
            <a:off x="1865160" y="3041640"/>
            <a:ext cx="2022480" cy="112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8" name="Freeform 116"/>
          <p:cNvSpPr/>
          <p:nvPr/>
        </p:nvSpPr>
        <p:spPr>
          <a:xfrm>
            <a:off x="2743200" y="3778200"/>
            <a:ext cx="560520" cy="433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9" name="Freeform 117"/>
          <p:cNvSpPr/>
          <p:nvPr/>
        </p:nvSpPr>
        <p:spPr>
          <a:xfrm>
            <a:off x="2692440" y="5251320"/>
            <a:ext cx="928800" cy="66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0" name="Freeform 118"/>
          <p:cNvSpPr/>
          <p:nvPr/>
        </p:nvSpPr>
        <p:spPr>
          <a:xfrm>
            <a:off x="3068640" y="4114800"/>
            <a:ext cx="289080" cy="1143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1" name="Freeform 119"/>
          <p:cNvSpPr/>
          <p:nvPr/>
        </p:nvSpPr>
        <p:spPr>
          <a:xfrm>
            <a:off x="2887560" y="4645080"/>
            <a:ext cx="14472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2" name="Freeform 120"/>
          <p:cNvSpPr/>
          <p:nvPr/>
        </p:nvSpPr>
        <p:spPr>
          <a:xfrm>
            <a:off x="3043080" y="4595760"/>
            <a:ext cx="974880" cy="241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3" name="Freeform 121"/>
          <p:cNvSpPr/>
          <p:nvPr/>
        </p:nvSpPr>
        <p:spPr>
          <a:xfrm>
            <a:off x="1673280" y="4572000"/>
            <a:ext cx="323640" cy="554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4" name="AutoShape 122"/>
          <p:cNvSpPr/>
          <p:nvPr/>
        </p:nvSpPr>
        <p:spPr>
          <a:xfrm>
            <a:off x="1600200" y="2703600"/>
            <a:ext cx="152280" cy="304560"/>
          </a:xfrm>
          <a:custGeom>
            <a:avLst/>
            <a:gdLst>
              <a:gd name="textAreaLeft" fmla="*/ 44640 w 152280"/>
              <a:gd name="textAreaRight" fmla="*/ 152640 w 1522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5" name="Line 123"/>
          <p:cNvSpPr/>
          <p:nvPr/>
        </p:nvSpPr>
        <p:spPr>
          <a:xfrm flipV="1">
            <a:off x="914400" y="2931840"/>
            <a:ext cx="685800" cy="228600"/>
          </a:xfrm>
          <a:prstGeom prst="line">
            <a:avLst/>
          </a:prstGeom>
          <a:ln w="2844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6" name="AutoShape 124"/>
          <p:cNvSpPr/>
          <p:nvPr/>
        </p:nvSpPr>
        <p:spPr>
          <a:xfrm flipH="1">
            <a:off x="4724280" y="2550960"/>
            <a:ext cx="152640" cy="304920"/>
          </a:xfrm>
          <a:custGeom>
            <a:avLst/>
            <a:gdLst>
              <a:gd name="textAreaLeft" fmla="*/ 45000 w 152640"/>
              <a:gd name="textAreaRight" fmla="*/ 153360 w 1526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7" name="Line 125"/>
          <p:cNvSpPr/>
          <p:nvPr/>
        </p:nvSpPr>
        <p:spPr>
          <a:xfrm flipH="1" flipV="1">
            <a:off x="4952520" y="2703600"/>
            <a:ext cx="228600" cy="304560"/>
          </a:xfrm>
          <a:prstGeom prst="line">
            <a:avLst/>
          </a:prstGeom>
          <a:ln w="2844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8" name="Rectangle 126"/>
          <p:cNvSpPr/>
          <p:nvPr/>
        </p:nvSpPr>
        <p:spPr>
          <a:xfrm>
            <a:off x="4932000" y="3008160"/>
            <a:ext cx="45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날짜는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반드시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기입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9" name="Rectangle 127"/>
          <p:cNvSpPr/>
          <p:nvPr/>
        </p:nvSpPr>
        <p:spPr>
          <a:xfrm>
            <a:off x="4414320" y="399888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선을 그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관련된 설명을 메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0" name="Line 128"/>
          <p:cNvSpPr/>
          <p:nvPr/>
        </p:nvSpPr>
        <p:spPr>
          <a:xfrm flipH="1">
            <a:off x="3352680" y="4151160"/>
            <a:ext cx="990720" cy="76320"/>
          </a:xfrm>
          <a:prstGeom prst="line">
            <a:avLst/>
          </a:prstGeom>
          <a:ln w="2844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1" name="AutoShape 129"/>
          <p:cNvSpPr/>
          <p:nvPr/>
        </p:nvSpPr>
        <p:spPr>
          <a:xfrm flipH="1" rot="3424800">
            <a:off x="3923280" y="5331960"/>
            <a:ext cx="152280" cy="685800"/>
          </a:xfrm>
          <a:custGeom>
            <a:avLst/>
            <a:gdLst>
              <a:gd name="textAreaLeft" fmla="*/ 44280 w 152280"/>
              <a:gd name="textAreaRight" fmla="*/ 152280 w 1522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2" name="Line 130"/>
          <p:cNvSpPr/>
          <p:nvPr/>
        </p:nvSpPr>
        <p:spPr>
          <a:xfrm flipH="1" flipV="1">
            <a:off x="4191120" y="5675040"/>
            <a:ext cx="304560" cy="152280"/>
          </a:xfrm>
          <a:prstGeom prst="line">
            <a:avLst/>
          </a:prstGeom>
          <a:ln w="2844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3" name="Rectangle 131"/>
          <p:cNvSpPr/>
          <p:nvPr/>
        </p:nvSpPr>
        <p:spPr>
          <a:xfrm>
            <a:off x="4639680" y="5675400"/>
            <a:ext cx="13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중요한 일은 동그라미 치거나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☆</a:t>
            </a: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로 강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1:37Z</dcterms:modified>
  <cp:revision>9</cp:revision>
  <dc:subject/>
  <dc:title>슬라이드 1</dc:title>
</cp:coreProperties>
</file>