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7040-F3D8-433A-AC5E-F0E1734DC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749B-39ED-4D8B-BA3A-0272AB9A3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4690-0E65-4D23-94C1-80CA6448B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DB48-D3FA-45FC-8CEE-0EFF13F68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79B-9046-49AE-AACB-CAB7EBC03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5AD-FA25-49EB-987B-7FFCB736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108-8897-4330-8960-31CC568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9F91-9214-4B98-BCC4-CD42C80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896-CA40-400B-89E7-8DC88A43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DBD-3CEF-4C28-A025-16D874E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3F7-ACEC-46F1-B228-6CFC37C0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3490-EAAA-4C40-BAFA-8BCD38ADE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83D-3FA3-47E7-9543-CBEC4569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6F8-3B0D-4124-8830-D04E0A86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C0A-0D7C-47A4-9E3D-8FA4F69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501-34F9-4831-BA14-3921597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E9C-27D2-4FEB-A8A8-37B53AEED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CEE9-0D66-4904-A261-6387FCD03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A088-0ED3-4C10-9D7E-DC6DA092D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1A2-3D02-41E5-BB87-29DFB69BE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D3C-3F85-4BB9-B65C-0C6AD1824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64EC-4219-4B3F-AA4D-9BFDEBF00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EAB8-14D4-4303-BA15-E0AD3EE91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7087-F96E-46CA-9D28-22320B94B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8FD3-9C71-4A22-9D70-61C9FD71E7DC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438560" y="1143000"/>
            <a:ext cx="44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1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일상생활에서 메모를 활용하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차량 주차할 때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교통사고 발생시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출 시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amp;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입자를 위한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장소 찾을 때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572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차량 운전시의 매너를 지킬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생활에서 예의 바른 직원으로 인정받을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생활에서 자신의 권익을 보호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58360" y="368604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생활에서 메모를 활용하기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교통사고 발생 시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차량이나 신체에 문제가 없더라고 자신의 연락처를 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차량번호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화번호 등을 간단하게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보험사 통화시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담자 이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출동한 사고 처리반 이름과 연락처를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출 시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&amp;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입자를 위한 메모하기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무실 구조 등 건물에 관한 정보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무실 인근 병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쇼핑센타 등 편의시설 정보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타 생활에 도움되는 정보 메모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장소 찾을 때 메모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도에 자신이 갈 목적지와 출발지를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요 도로와 지형을 보고 이동 경로를 지도에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간 휴식시간에 지나온 경로를 표시하고 주요 포인트를 지도에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68640"/>
            <a:ext cx="213336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차량주차 할 때 메모하기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차시설의 주차원칙을 지킨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연락처를 앞면 좌측 유리에 부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연락전화는 향상 켜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6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0653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일상생활에서 메모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447920" y="2446200"/>
            <a:ext cx="4343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주차장에서 다른 차를 긁었을 경우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쁜 일이 있어 서두르다 다른 차량에 흠집을 냈을 경우에도 미안하다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는 말과 함께 연락처를 반드시 메모하여 둔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주위에 경험 많은 멘토를 한명 정도 메모하여 다닌다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살다 보면 교통사고나 어려운 일을 겪기도 하는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편하게 대화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힘든 상황에서 자문을 받을 수 있는 사람이 필요하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평소에 이런 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람의 전화번호를 메모하고 다니는 것도 생활의 지혜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이사 시의 메모 노하우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의식주에 관련된 좋은 시설을 메모하여 새로운 전입자에게 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병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관공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쇼핑센타 등이 도움이 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어린아이가 있는 경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훌륭한 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과도 좋은 정보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지도를 활용하는 노하우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단 가고자 하는 장소와 출발지를 표시한 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동서남북의 방향을 잡고 이동로를 정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맑은 날은 해를 기준으로 방위를 인식하면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6:43Z</dcterms:modified>
  <cp:revision>9</cp:revision>
  <dc:subject/>
  <dc:title>슬라이드 1</dc:title>
</cp:coreProperties>
</file>