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E4FA-2C4D-4A19-B8E8-733A680E1D09}" type="slidenum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5BCB-1164-446E-A2D6-748B1265A8DE}" type="slidenum">
              <a:rPr b="0" lang="ko-KR" sz="1200" spc="-1" strike="noStrike">
                <a:solidFill>
                  <a:srgbClr val="000000"/>
                </a:solidFill>
                <a:latin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14CE-298B-4339-9AED-1B3E30BD9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FCE7-76FE-43AF-9441-40799504C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89B3-418A-4E93-89C5-540896C8C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3006-CB92-46F5-BE07-6C4CC0D13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77D-9458-4432-B1F4-1D8C39065D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6B1-173F-4EDC-8979-5E746C1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3E9-FFB2-4180-BAF6-9AAA0D73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FE3-8927-44FA-A14D-EA41302C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9F6-8AA1-4ACC-8402-B35C7EB6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663-0700-4313-A352-EF87F7FE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1E4-DBE1-4E05-A736-52D7701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3E2F-8D59-426A-846C-049FABD18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9DF-1874-4471-9E66-40CB6F5A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44C-0B29-4727-9F6B-8C3F4C89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89A-72FF-463F-B71E-347EAE2E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F96-04F7-4EDA-B6B7-3E90AE6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58A-AD5E-49FF-97B2-E26CC07A21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5453-EBBB-4453-9C56-ECC6E7B39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A86F-B05D-477C-8AB2-B34ACB327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0A21-E616-4392-BA28-7F45B786F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C8F8-D1CF-4C52-9B40-BA1048E51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6290-EF53-4605-A8B1-C9389B5A4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3309-C733-47C8-B46A-57B79ABD1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A7CD-FF44-4B93-9EBB-CC8408C86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39FA-1CDC-4BCB-AE63-7DB5957F6160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3"/>
          <p:cNvSpPr/>
          <p:nvPr/>
        </p:nvSpPr>
        <p:spPr>
          <a:xfrm>
            <a:off x="1344960" y="1143000"/>
            <a:ext cx="459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10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일상 생활에서 메모를 활용하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 (2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46280" y="6541920"/>
            <a:ext cx="5562360" cy="99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898560" y="4332240"/>
            <a:ext cx="45720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인맥 관리를 위한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생각을 정리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독서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시각적인 메모 방법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765000" y="6556320"/>
            <a:ext cx="5526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통해 인맥 관리를 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생각을 정리할 때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독서할 때의 메모 방법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시각적인 메모 방법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96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1646280" y="3686040"/>
            <a:ext cx="34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굴림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일상 생활에서 활용할 수 있는 메모 방법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찾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633840" y="1643040"/>
            <a:ext cx="2209680" cy="2928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109520" y="4786200"/>
            <a:ext cx="2210040" cy="27147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664080" y="4781520"/>
            <a:ext cx="2209680" cy="271944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643200" y="2143080"/>
            <a:ext cx="22100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생각을 정리할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차량의 통행이 적은 산책길이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공원을 걸으며 생각을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문자화할 도구가 없을 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쓰기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싫거나 쓰는 일에 자신이 없으면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단 녹음한 후 나중에 문장으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듬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비상시에는 휴대전화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동응답기를 활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109520" y="5303880"/>
            <a:ext cx="2210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독서할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책을 읽을 때는 메모지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책갈피로 사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끼워둔 메모지에 작가의 의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핵심 내용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감상 등을 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저분해져도 상관없다면 책에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직접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664080" y="5238720"/>
            <a:ext cx="236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시각적으로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짧게 항목별로 기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진이나 그림을 붙이며 마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스케치북에 그림을 그리듯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하나의 단어에서 생각을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1123920" y="1619280"/>
            <a:ext cx="2209680" cy="29527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1200240" y="2104920"/>
            <a:ext cx="2133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인맥 관리를 위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람을 만난 후에는 간략하게라도 상대방의 정보를 기록해 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명함을 교환하면 만난 날짜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장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 사람의 특징 등을 명함에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의 개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특징을 표현할 수 있는 단어나 그림을 명함에 그려 넣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명함은 여러 곳에 분산해서 넣어다닌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명함이 없을 때에는 인물정보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입할 수 있는 카드를 활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3645720" y="185724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332720" y="497052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3717000" y="497052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5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16" name="Picture 99" descr="bkahi84_2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1000080" y="2065320"/>
            <a:ext cx="4495680" cy="3506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00"/>
          <p:cNvSpPr/>
          <p:nvPr/>
        </p:nvSpPr>
        <p:spPr>
          <a:xfrm>
            <a:off x="1685880" y="147960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간략한 인물 데이터베이스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Rectangle 112"/>
          <p:cNvSpPr/>
          <p:nvPr/>
        </p:nvSpPr>
        <p:spPr>
          <a:xfrm>
            <a:off x="1409760" y="2293920"/>
            <a:ext cx="3527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성명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ㅇㅇ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회사명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㈜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ㅇㅇㅇ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부서명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획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직함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대리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날짜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2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ㅇㅇ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ㅇ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ㅇ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만난 장소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xx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문고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소개한 사람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P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만나게 된 계기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P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의 소개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느낌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첫인상은 차가워 보였으나 부드러웠고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성실한 사람인 듯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7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22" name="Picture 37" descr="bkahi84_2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1066680" y="249408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8"/>
          <p:cNvSpPr/>
          <p:nvPr/>
        </p:nvSpPr>
        <p:spPr>
          <a:xfrm>
            <a:off x="1752480" y="160956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키워드로 확대하는 메모의 예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4" name="Rectangle 52"/>
          <p:cNvSpPr/>
          <p:nvPr/>
        </p:nvSpPr>
        <p:spPr>
          <a:xfrm>
            <a:off x="1828800" y="2952720"/>
            <a:ext cx="1676520" cy="228600"/>
          </a:xfrm>
          <a:prstGeom prst="rect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영문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3505320" y="2952720"/>
            <a:ext cx="1676160" cy="228600"/>
          </a:xfrm>
          <a:prstGeom prst="rect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한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1828800" y="3181320"/>
            <a:ext cx="16765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Memo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Memorial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Memorandum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3505320" y="3181320"/>
            <a:ext cx="16761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메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억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념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비망록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록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쓰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8" name="Rectangle 56"/>
          <p:cNvSpPr/>
          <p:nvPr/>
        </p:nvSpPr>
        <p:spPr>
          <a:xfrm>
            <a:off x="1828800" y="4476600"/>
            <a:ext cx="16765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備忘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記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記憶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3505320" y="4476600"/>
            <a:ext cx="167616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メモリアル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メモリソダム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メモリㄧ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0" name="Rectangle 58"/>
          <p:cNvSpPr/>
          <p:nvPr/>
        </p:nvSpPr>
        <p:spPr>
          <a:xfrm>
            <a:off x="1828800" y="5772240"/>
            <a:ext cx="1676520" cy="228600"/>
          </a:xfrm>
          <a:prstGeom prst="rect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한자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1" name="Rectangle 59"/>
          <p:cNvSpPr/>
          <p:nvPr/>
        </p:nvSpPr>
        <p:spPr>
          <a:xfrm>
            <a:off x="3505320" y="5772240"/>
            <a:ext cx="1676160" cy="228600"/>
          </a:xfrm>
          <a:prstGeom prst="rect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일본어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2" name="Oval 60"/>
          <p:cNvSpPr/>
          <p:nvPr/>
        </p:nvSpPr>
        <p:spPr>
          <a:xfrm>
            <a:off x="3048120" y="4095720"/>
            <a:ext cx="914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엽서L"/>
                <a:ea typeface="HY엽서L"/>
              </a:rPr>
              <a:t>메모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13:07Z</dcterms:modified>
  <cp:revision>10</cp:revision>
  <dc:subject/>
  <dc:title>슬라이드 1</dc:title>
</cp:coreProperties>
</file>