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BD4D9-5A4E-4D24-9EFA-B6B1F7286D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78231-FA6B-4A54-8BE0-6D7A74B1C1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1333F-E77C-4CB4-BAEC-67CFB1C927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50E61-7392-4AC8-8EBA-62274DC864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271C-F34F-4BCC-8E9C-658B22159B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3697-1A98-4365-BDB8-34F63FFB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940D-6955-48CB-9962-0580C5C9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08CC-DAB1-4E3F-AADD-86DEA152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A60E-1825-4B87-883E-3B0B786E2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C2A2-2240-4EC5-9995-5610915BD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0E8B-18D6-47DB-9D7F-6421DAA1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DC2EC-2333-4E25-8D14-8F21B8CAF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9F07-550B-45D4-AE91-5C91B2A9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3E23-9B65-434F-9131-5AE5A2A5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B3FF-A227-4D4E-A0A2-0D8B0199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F890-BA60-4F55-9B06-E6498743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F3C5-4743-4980-A6FC-B8DBBEABCC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780EA-7DD7-478D-9CA5-86F82BF02A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749D5-8E97-4CC1-8AA4-45BBF17DCB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D8578-6E69-493D-96C3-36E2DFD81B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1E582-635C-4F15-9865-62C16D3E9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1563C-222F-4588-84F3-C044F92EB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12AB5-2650-4075-9696-8A244A60D5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7D47A-AB60-4298-BA49-CD4802EBB3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" name="직사각형 7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과정명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28D6-950D-492A-AB2C-0615F8457E0B}" type="slidenum">
              <a:rPr b="0" lang="ko-KR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사각형 6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2" name="직사각형 8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머리보다 손이 먼저 움직이는 메모의 기술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3" name="직사각형 9"/>
          <p:cNvSpPr/>
          <p:nvPr/>
        </p:nvSpPr>
        <p:spPr>
          <a:xfrm>
            <a:off x="320760" y="539640"/>
            <a:ext cx="6216480" cy="86043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bingo.naver.com/album/image_view.htm?user_id=bkahi84&amp;board_no=32414&amp;nid=8329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3"/>
          <p:cNvSpPr/>
          <p:nvPr/>
        </p:nvSpPr>
        <p:spPr>
          <a:xfrm>
            <a:off x="958320" y="1143000"/>
            <a:ext cx="485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4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차시 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업무 상황에 맞는 메모 방법을 찾아라 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46280" y="6541920"/>
            <a:ext cx="5562360" cy="83844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746280" y="4027320"/>
            <a:ext cx="556236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898560" y="4332240"/>
            <a:ext cx="45720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상사를 대할 때의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상사가 되었을 때의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비즈니스 문서를 작성할 때의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스케줄이 변경되었을 때의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업무를 끝낼 때의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733320" y="6546960"/>
            <a:ext cx="5572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상사와의 관계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비즈니스 문서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스케줄 변경을 위한 메모의 방법을 적용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171360" indent="-171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업무를 끝낼 때의 메모 방법을 이해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89" name="Picture 11" descr="j0299549"/>
          <p:cNvPicPr/>
          <p:nvPr/>
        </p:nvPicPr>
        <p:blipFill>
          <a:blip r:embed="rId1"/>
          <a:stretch/>
        </p:blipFill>
        <p:spPr>
          <a:xfrm>
            <a:off x="4784760" y="4637160"/>
            <a:ext cx="1219320" cy="1155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1465920" y="3686040"/>
            <a:ext cx="290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돋움"/>
                <a:ea typeface="굴림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업무 상황에 맞는 메모 방법</a:t>
            </a:r>
            <a:r>
              <a:rPr b="1" lang="ko-KR" sz="1400" spc="-1" strike="noStrike">
                <a:solidFill>
                  <a:srgbClr val="000000"/>
                </a:solidFill>
                <a:latin typeface="돋움"/>
                <a:ea typeface="굴림"/>
              </a:rPr>
              <a:t>’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을  찾기 위한 발자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964440" y="620064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나는 할 수 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363384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2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2433600" y="4370400"/>
            <a:ext cx="2209680" cy="255888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3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633840" y="2152800"/>
            <a:ext cx="2209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상사로서 부하 직원을 대할 때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부하 직원의 행동 유형이나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성격 등 기본 사항을 파악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부하 직원에게 명령할 때는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때때로 구체적으로 지시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한꺼번에 대여섯 가지의 명령을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내려 메모할 수 밖에 없는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환경을 만든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2433600" y="4888080"/>
            <a:ext cx="220968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편지나 비즈니스 문서를 작성할 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때의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무슨 내용을 어떤 식으로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전달하고 싶은지 항목별로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상대방에게 반드시 전해야 할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사항을 빠짐없이 쓴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다 쓴 후에는 소리내어 읽어본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훌륭한 문장을 만들려고 너무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애쓸 필요는 없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112392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7" name="Text Box 20"/>
          <p:cNvSpPr/>
          <p:nvPr/>
        </p:nvSpPr>
        <p:spPr>
          <a:xfrm>
            <a:off x="1200240" y="2305080"/>
            <a:ext cx="213336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상사를 대할 때의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지시한 내용을 그대로 받아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적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일을 진행하면서 의문 사항이나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아이디어도 함께 적어나간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말이 자주 바뀌는 상사를 대할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때는 상사가 지시하면 바로 그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앞에서 받아 적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8" name="Rectangle 21"/>
          <p:cNvSpPr/>
          <p:nvPr/>
        </p:nvSpPr>
        <p:spPr>
          <a:xfrm>
            <a:off x="1278720" y="1847880"/>
            <a:ext cx="59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1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9" name="Text Box 22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3643200" y="1781280"/>
            <a:ext cx="2352960" cy="236196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5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3710160" y="2238480"/>
            <a:ext cx="236196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업무를 끝낼 때의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A4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용지에 하루 동안 한 일을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항목별로 적고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완전히 끝난 일은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사인펜으로 지운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매일 메모지에 이런 방식으로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를 하고 내일의 할 일을 적어둔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곳에 붙인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이렇게 모아둔 메모지들은 업무의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흐름을 알 수 있게 해준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4" name="Line 18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1071720" y="178596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4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1071720" y="2243160"/>
            <a:ext cx="2361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스케줄이 변경되었을 때의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변경 전 메모를 깨끗하게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지워버리지 않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나중에 다시 보았을 때 변경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사유를 알 수 있도록 표시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5"/>
          <p:cNvSpPr/>
          <p:nvPr/>
        </p:nvSpPr>
        <p:spPr>
          <a:xfrm>
            <a:off x="380880" y="762120"/>
            <a:ext cx="1905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lus One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8" name="Line 27"/>
          <p:cNvSpPr/>
          <p:nvPr/>
        </p:nvSpPr>
        <p:spPr>
          <a:xfrm>
            <a:off x="457200" y="1395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109" name="Picture 53" descr="bkahi84_2">
            <a:hlinkClick r:id="rId1"/>
          </p:cNvPr>
          <p:cNvPicPr/>
          <p:nvPr/>
        </p:nvPicPr>
        <p:blipFill>
          <a:blip r:embed="rId2"/>
          <a:srcRect l="0" t="0" r="51709" b="35003"/>
          <a:stretch/>
        </p:blipFill>
        <p:spPr>
          <a:xfrm>
            <a:off x="1066680" y="2351160"/>
            <a:ext cx="4496040" cy="422100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55"/>
          <p:cNvSpPr/>
          <p:nvPr/>
        </p:nvSpPr>
        <p:spPr>
          <a:xfrm>
            <a:off x="1600200" y="1479600"/>
            <a:ext cx="2286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스케줄이 변경되었을 때 메모의 예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1" name="AutoShape 63"/>
          <p:cNvSpPr/>
          <p:nvPr/>
        </p:nvSpPr>
        <p:spPr>
          <a:xfrm>
            <a:off x="1600200" y="2579760"/>
            <a:ext cx="3657600" cy="380880"/>
          </a:xfrm>
          <a:prstGeom prst="roundRect">
            <a:avLst>
              <a:gd name="adj" fmla="val 16667"/>
            </a:avLst>
          </a:prstGeom>
          <a:solidFill>
            <a:srgbClr val="ffe1e1"/>
          </a:solidFill>
          <a:ln w="0">
            <a:noFill/>
          </a:ln>
          <a:effectLst>
            <a:outerShdw dist="17819" dir="2700000" blurRad="0" rotWithShape="0">
              <a:srgbClr val="fefa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오후 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시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, P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씨와의 미팅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2" name="Line 64"/>
          <p:cNvSpPr/>
          <p:nvPr/>
        </p:nvSpPr>
        <p:spPr>
          <a:xfrm>
            <a:off x="3295800" y="3429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3" name="Rectangle 67"/>
          <p:cNvSpPr/>
          <p:nvPr/>
        </p:nvSpPr>
        <p:spPr>
          <a:xfrm>
            <a:off x="1714680" y="3112920"/>
            <a:ext cx="32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P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씨의 자료 준비 미비로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5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시로 변경되었을 때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4" name="AutoShape 68"/>
          <p:cNvSpPr/>
          <p:nvPr/>
        </p:nvSpPr>
        <p:spPr>
          <a:xfrm>
            <a:off x="1600200" y="4648320"/>
            <a:ext cx="3657600" cy="380880"/>
          </a:xfrm>
          <a:prstGeom prst="roundRect">
            <a:avLst>
              <a:gd name="adj" fmla="val 16667"/>
            </a:avLst>
          </a:prstGeom>
          <a:solidFill>
            <a:srgbClr val="ffe1e1"/>
          </a:solidFill>
          <a:ln w="0">
            <a:noFill/>
          </a:ln>
          <a:effectLst>
            <a:outerShdw dist="17819" dir="2700000" blurRad="0" rotWithShape="0">
              <a:srgbClr val="fefa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오전 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10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시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, K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씨에게 기획안 메일 보내기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5" name="Line 69"/>
          <p:cNvSpPr/>
          <p:nvPr/>
        </p:nvSpPr>
        <p:spPr>
          <a:xfrm>
            <a:off x="3400560" y="55720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6" name="Rectangle 71"/>
          <p:cNvSpPr/>
          <p:nvPr/>
        </p:nvSpPr>
        <p:spPr>
          <a:xfrm>
            <a:off x="1500120" y="5224320"/>
            <a:ext cx="392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K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씨의 부재로 팩스로 보내고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A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씨에게 전달을 부탁함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1600200" y="3857760"/>
            <a:ext cx="3657600" cy="609480"/>
          </a:xfrm>
          <a:prstGeom prst="roundRect">
            <a:avLst>
              <a:gd name="adj" fmla="val 16667"/>
            </a:avLst>
          </a:prstGeom>
          <a:solidFill>
            <a:srgbClr val="ffe8d1"/>
          </a:solidFill>
          <a:ln w="0">
            <a:noFill/>
          </a:ln>
          <a:effectLst>
            <a:outerShdw dist="17819" dir="2700000" blurRad="0" rotWithShape="0">
              <a:srgbClr val="fefa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오후 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시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, P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씨와의 미팅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P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씨의 자료 준비 미비로 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5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시로 변경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8" name="AutoShape 19"/>
          <p:cNvSpPr/>
          <p:nvPr/>
        </p:nvSpPr>
        <p:spPr>
          <a:xfrm>
            <a:off x="1600200" y="6033960"/>
            <a:ext cx="3657600" cy="609840"/>
          </a:xfrm>
          <a:prstGeom prst="roundRect">
            <a:avLst>
              <a:gd name="adj" fmla="val 16667"/>
            </a:avLst>
          </a:prstGeom>
          <a:solidFill>
            <a:srgbClr val="ffe8d1"/>
          </a:solidFill>
          <a:ln w="0">
            <a:noFill/>
          </a:ln>
          <a:effectLst>
            <a:outerShdw dist="17819" dir="2700000" blurRad="0" rotWithShape="0">
              <a:srgbClr val="fefa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오전 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10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시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, K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씨에게 기획안 메일 보내기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K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씨의 부재로 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A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씨에게 전달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4:42:06Z</dcterms:created>
  <dc:creator>강형구</dc:creator>
  <dc:description/>
  <dc:language>en-US</dc:language>
  <cp:lastModifiedBy>a</cp:lastModifiedBy>
  <dcterms:modified xsi:type="dcterms:W3CDTF">2008-10-09T01:25:51Z</dcterms:modified>
  <cp:revision>9</cp:revision>
  <dc:subject/>
  <dc:title>슬라이드 1</dc:title>
</cp:coreProperties>
</file>