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99D-AA71-4DE0-B277-53A8E224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E5B-F2A6-44CA-89EB-729BEA1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245-04BA-4577-A130-4794D300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84D-A0B1-48B2-A471-E47C3F5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B8D-9B9F-42A8-9DAA-ECE7BD26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F2C-8C79-4D52-BABE-A8FCA275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6DF-B091-4714-8CCD-29F0074F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975-48D8-4A4F-81F8-96C8CF4A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A9E-F1E9-4E2B-8E63-3777B70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7B5-4FB3-4142-950B-C7385C0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EDB-EBA3-4FEB-A6CD-43030F3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080-6737-40C4-95A0-449B97C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6C6-B974-46E8-B227-5A426E4317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11360" y="1166760"/>
          <a:ext cx="5454360" cy="7174080"/>
        </p:xfrm>
        <a:graphic>
          <a:graphicData uri="http://schemas.openxmlformats.org/drawingml/2006/table">
            <a:tbl>
              <a:tblPr/>
              <a:tblGrid>
                <a:gridCol w="71100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   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 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523880" y="665280"/>
            <a:ext cx="3802320" cy="29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~ 2030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년 달력 정리표 보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851" t="83002" r="86110" b="13181"/>
          <a:stretch/>
        </p:blipFill>
        <p:spPr>
          <a:xfrm>
            <a:off x="5572080" y="8674200"/>
            <a:ext cx="1150920" cy="3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132" t="16314" r="84555" b="70745"/>
          <a:stretch/>
        </p:blipFill>
        <p:spPr>
          <a:xfrm>
            <a:off x="0" y="0"/>
            <a:ext cx="932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2:29:56Z</dcterms:created>
  <dc:creator>ika</dc:creator>
  <dc:description/>
  <dc:language>en-US</dc:language>
  <cp:lastModifiedBy>ika</cp:lastModifiedBy>
  <dcterms:modified xsi:type="dcterms:W3CDTF">2008-04-25T02:45:37Z</dcterms:modified>
  <cp:revision>4</cp:revision>
  <dc:subject/>
  <dc:title>슬라이드 1</dc:title>
</cp:coreProperties>
</file>