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907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000" y="3682080"/>
            <a:ext cx="907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000" y="368208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2680" y="368208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1200" y="160452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8040" y="160452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000" y="368208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1200" y="368208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8040" y="3682080"/>
            <a:ext cx="29206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000" y="1604520"/>
            <a:ext cx="9071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9071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4000" y="273600"/>
            <a:ext cx="9071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000" y="368208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2680" y="368208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000" y="273600"/>
            <a:ext cx="9071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00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604520"/>
            <a:ext cx="44269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000" y="3682080"/>
            <a:ext cx="9071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69160" y="6605640"/>
            <a:ext cx="235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9657-D5BD-4920-B2E5-658A9CC411C5}" type="slidenum"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19160" y="692280"/>
            <a:ext cx="7145280" cy="5914800"/>
          </a:xfrm>
          <a:prstGeom prst="rect">
            <a:avLst/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7264440" y="692280"/>
            <a:ext cx="2619360" cy="5914800"/>
          </a:xfrm>
          <a:prstGeom prst="rect">
            <a:avLst/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119160" y="428760"/>
            <a:ext cx="7145280" cy="263520"/>
          </a:xfrm>
          <a:prstGeom prst="rect">
            <a:avLst/>
          </a:prstGeom>
          <a:solidFill>
            <a:srgbClr val="d9e4ed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7264440" y="3645000"/>
            <a:ext cx="2619360" cy="231120"/>
          </a:xfrm>
          <a:prstGeom prst="rect">
            <a:avLst/>
          </a:prstGeom>
          <a:solidFill>
            <a:srgbClr val="e2dde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SCRIPT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0600" y="6318360"/>
            <a:ext cx="7143480" cy="288720"/>
            <a:chOff x="120600" y="6318360"/>
            <a:chExt cx="7143480" cy="288720"/>
          </a:xfrm>
        </p:grpSpPr>
        <p:sp>
          <p:nvSpPr>
            <p:cNvPr id="6" name=""/>
            <p:cNvSpPr/>
            <p:nvPr/>
          </p:nvSpPr>
          <p:spPr>
            <a:xfrm>
              <a:off x="120600" y="6318360"/>
              <a:ext cx="7143480" cy="288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8560" y="6434280"/>
              <a:ext cx="4287240" cy="7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62960" y="6353280"/>
              <a:ext cx="237600" cy="21564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6469560" y="6356160"/>
              <a:ext cx="237600" cy="215640"/>
              <a:chOff x="6469560" y="6356160"/>
              <a:chExt cx="237600" cy="215640"/>
            </a:xfrm>
          </p:grpSpPr>
          <p:sp>
            <p:nvSpPr>
              <p:cNvPr id="10" name=""/>
              <p:cNvSpPr/>
              <p:nvPr/>
            </p:nvSpPr>
            <p:spPr>
              <a:xfrm rot="10800000">
                <a:off x="6469560" y="6356160"/>
                <a:ext cx="237600" cy="215640"/>
              </a:xfrm>
              <a:prstGeom prst="ellipse">
                <a:avLst/>
              </a:prstGeom>
              <a:solidFill>
                <a:srgbClr val="f8f8f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0800000">
                <a:off x="6527160" y="6390000"/>
                <a:ext cx="159120" cy="144000"/>
              </a:xfrm>
              <a:prstGeom prst="leftArrow">
                <a:avLst>
                  <a:gd name="adj1" fmla="val 100000"/>
                  <a:gd name="adj2" fmla="val 9593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6073920" y="6356160"/>
              <a:ext cx="237240" cy="215640"/>
              <a:chOff x="6073920" y="6356160"/>
              <a:chExt cx="237240" cy="215640"/>
            </a:xfrm>
          </p:grpSpPr>
          <p:sp>
            <p:nvSpPr>
              <p:cNvPr id="13" name=""/>
              <p:cNvSpPr/>
              <p:nvPr/>
            </p:nvSpPr>
            <p:spPr>
              <a:xfrm rot="10800000">
                <a:off x="6073920" y="6356160"/>
                <a:ext cx="237240" cy="215640"/>
              </a:xfrm>
              <a:prstGeom prst="ellipse">
                <a:avLst/>
              </a:prstGeom>
              <a:solidFill>
                <a:srgbClr val="f8f8f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165000" y="6389640"/>
                <a:ext cx="0" cy="14292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222600" y="6389640"/>
                <a:ext cx="0" cy="14292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 rot="10800000">
              <a:off x="5677200" y="6356160"/>
              <a:ext cx="237600" cy="21564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24360" y="6462720"/>
              <a:ext cx="15912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4994280" y="6462720"/>
              <a:ext cx="15732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0800000">
              <a:off x="6866640" y="6352920"/>
              <a:ext cx="237960" cy="21564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909120" y="6400800"/>
              <a:ext cx="159120" cy="14292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6909120" y="6391440"/>
              <a:ext cx="159120" cy="152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7264440" y="433440"/>
            <a:ext cx="2619360" cy="263520"/>
          </a:xfrm>
          <a:prstGeom prst="rect">
            <a:avLst/>
          </a:prstGeom>
          <a:solidFill>
            <a:srgbClr val="e2dde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"/>
          <p:cNvSpPr/>
          <p:nvPr/>
        </p:nvSpPr>
        <p:spPr>
          <a:xfrm>
            <a:off x="8312040" y="438120"/>
            <a:ext cx="48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돋움"/>
                <a:ea typeface="돋움"/>
              </a:rPr>
              <a:t>화면 설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"/>
          <p:cNvSpPr/>
          <p:nvPr/>
        </p:nvSpPr>
        <p:spPr>
          <a:xfrm>
            <a:off x="478440" y="436680"/>
            <a:ext cx="157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8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차시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분석력 중심의 통합논술 지도전략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" name=""/>
          <p:cNvGrpSpPr/>
          <p:nvPr/>
        </p:nvGrpSpPr>
        <p:grpSpPr>
          <a:xfrm>
            <a:off x="144360" y="115920"/>
            <a:ext cx="9720360" cy="227160"/>
            <a:chOff x="144360" y="115920"/>
            <a:chExt cx="9720360" cy="227160"/>
          </a:xfrm>
        </p:grpSpPr>
        <p:sp>
          <p:nvSpPr>
            <p:cNvPr id="26" name=""/>
            <p:cNvSpPr/>
            <p:nvPr/>
          </p:nvSpPr>
          <p:spPr>
            <a:xfrm>
              <a:off x="9072720" y="115920"/>
              <a:ext cx="7920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353440" y="115920"/>
              <a:ext cx="719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화면번호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272360" y="115920"/>
              <a:ext cx="10810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335640" y="115920"/>
              <a:ext cx="936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구 분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384720" y="115920"/>
              <a:ext cx="29509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굴림"/>
                </a:rPr>
                <a:t>08. </a:t>
              </a:r>
              <a:r>
                <a:rPr b="1" lang="zh-CN" sz="900" spc="-1" strike="noStrike">
                  <a:solidFill>
                    <a:srgbClr val="000000"/>
                  </a:solidFill>
                  <a:latin typeface="굴림"/>
                </a:rPr>
                <a:t>분석력 중심의 통합논술 지도전략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482920" y="115920"/>
              <a:ext cx="9018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차시명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63640" y="115920"/>
              <a:ext cx="1619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통합논술지도 심화과정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4360" y="115920"/>
              <a:ext cx="719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굴림"/>
                </a:rPr>
                <a:t>과정명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44360" y="115920"/>
              <a:ext cx="0" cy="227160"/>
            </a:xfrm>
            <a:prstGeom prst="line">
              <a:avLst/>
            </a:prstGeom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364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48292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38472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33564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272360" y="11592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35344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907272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864720" y="115920"/>
              <a:ext cx="0" cy="227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272360" y="115920"/>
              <a:ext cx="259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44360" y="115920"/>
              <a:ext cx="7128000" cy="0"/>
            </a:xfrm>
            <a:prstGeom prst="line">
              <a:avLst/>
            </a:prstGeom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272360" y="343080"/>
              <a:ext cx="259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4360" y="343080"/>
              <a:ext cx="7128000" cy="0"/>
            </a:xfrm>
            <a:prstGeom prst="line">
              <a:avLst/>
            </a:prstGeom>
            <a:ln cap="sq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8000" y="1125360"/>
            <a:ext cx="7056360" cy="4248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008000" y="1125360"/>
            <a:ext cx="7056360" cy="289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7488360" y="119700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Clos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1417680" y="1576440"/>
            <a:ext cx="547992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1100880" y="692280"/>
            <a:ext cx="166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1]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해우석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(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解 憂 石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)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이외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1245240" y="1125360"/>
            <a:ext cx="166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1]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해우석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(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解 憂 石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)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이외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1008000" y="1557360"/>
            <a:ext cx="705636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녹전碌田 김평욱金平旭은 마흔 두 살에 결혼해서 슬하에 다섯 살 난 아들하나를 두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탐석광探石狂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명석을 찾아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허구한 날을 땅바닥만 내려다 보며 전국을 누비다 보니 자연히 결혼이 늦어질 수밖에 없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하지만 뒤늦게 결혼을 하고 나서도 그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가장으로서의 책임감을 가지고 가정을 돌보지는 않았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오로지 탐석에만 열중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아이가 태어나서 다섯 살이 될 때까지 얼굴을 네 번밖에 대면하지 못했을 정도였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아버지가 된 연후로 집에 들어 간 적이 일 년에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한번 꼴도 못 되는 셈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누가 가정에 대해서 물으면 언제나 함구무언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마누라의 나이도 모르고 있었고 아이의 나이도 모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나 다행스럽게도 경제적으로는 그리 쪼들리는 편이 아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부모에게서 물려받은 얼마간의 재산도 있는 데다 마누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가 직장생활을 해서 벌어 오는 돈도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단지 무관심이 문제였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하지만 그가 주관하고 있는 탐석회의 회원들은 가족들조차 팽개치고 탐석에만 몰두하는 그의 열의를 귀감의 표본이나 되는 듯이 생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하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탐석을 통해서 도에 이르고자 하는 수도 자의 한 사람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모두들 흉내를 내지 못해 조바심이 나 있을 정도였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마누라들이 그 사실을 알면 암살이라도 모의하지 않을까 자못 걱정이 앞설 지경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좋은 돌을 만나기란 좋은 마누라를 만나기보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몇 배나 힘든 법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런데도 그가 수집해 놓은 돌들은 모두가 수준급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백과사전이나 수석입문서에 명석의 표본으로 등재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어 있는 것들도 한 두 점이 아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뿐만 아니라 돌에 관한 전문지식도 타의추종을 불허할 정도였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몇 날 몇 밤이라도 지치지 않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떠들어 댈 수가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나 해우석解憂石에 관한 말만 나오면 그는 아무 대꾸도 하지 못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대번에 기가 죽어 버린 표정으로 탄식 같은 한숨만 길게 내뱉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을 뿐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가 알고 있는 바에 의하면 절에서는 화장실을 해우당解憂堂이라고 지칭하는데 화장실이 일만근심을 덜어준다는 연유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서 붙여진 이름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니까 해우라는 단어는 해탈이라는 단어와 같은 의미였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따라서 해우석은 그대로 해탈석이나 다름이 없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보기만 하면 일만근심을 사라져 버리게 만드는 돌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7345440" y="5088240"/>
            <a:ext cx="657000" cy="231120"/>
          </a:xfrm>
          <a:prstGeom prst="rect">
            <a:avLst/>
          </a:prstGeom>
          <a:solidFill>
            <a:srgbClr val="ffcc99">
              <a:alpha val="4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1 / 3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8000" y="1125360"/>
            <a:ext cx="7056360" cy="4248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1008000" y="1125360"/>
            <a:ext cx="7056360" cy="289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7488360" y="119700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Clos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417680" y="1576440"/>
            <a:ext cx="547992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1100880" y="692280"/>
            <a:ext cx="166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1]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해우석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(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解 憂 石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)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이외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245240" y="1125360"/>
            <a:ext cx="166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1]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해우석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(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解 憂 石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)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이외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7345440" y="5088240"/>
            <a:ext cx="657000" cy="231120"/>
          </a:xfrm>
          <a:prstGeom prst="rect">
            <a:avLst/>
          </a:prstGeom>
          <a:solidFill>
            <a:srgbClr val="ffcc99">
              <a:alpha val="4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2 / 3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008000" y="1413000"/>
            <a:ext cx="705636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탐석을 생활의 전부로 알고 살아가는 사람이라면 누구나 꿈꾸게 되는 돌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이 세상에 반드시 그런 돌이 존재하리라고 믿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얼음이 얼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도계에서 산수경석山水景石 한 점을 건진 것으로 만족하고 올해의 탐석을 모두 마무리 짓기로 마음 먹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오석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경도도 높고 빛깔도 짙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적당히 균형 잡 힌 두 개의 산봉우리 사이로 하얀 폭포가 수직으로 낙하하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제법 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지지 않는 운치를 가지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집으로 돌아오니 생각대로 그의 마누라는 볼이 부어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아이도 서먹서먹해 하는 표정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멀직이서 그의 주변을 맴돌기만 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아무 말도 하지 않고 돌을 손질하기 시작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돌 은 차츰 윤기를 드러내며 선명한 빛깔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되살아나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몇 십 분이 지나자 아이는 서먹서먹함이 사라져버린 모양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곁에까지 바싹 접근해서 호기심이 서린 표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으로 그의 작업을 주시하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 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아빠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거 뭐예요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" 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한참만에 아이가 도계에서 탐석해 온 산수경석을 가리키며 그에게 물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돌이란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"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아이가 자신이 탐석해 온 돌에 대해서 관심을 가져 주었다는 사실에 적지 않은 반가움을 느끼며 호기있는 목소리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대답해 주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거 돌 아니에요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"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나 아이는 완강하게 도리질을 해 보였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럼 이게 뭐지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" 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몰라요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" 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게 진짜 돌이야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아니에요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"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아이는 더 이상 아무 말도 하지 않고 슬그머니 밖으로 나가 버렸는데 그는 줄곧 왜 아이가 자신이 탐석해 온 산수경석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돌이 아니라고 우겼는지 의아해하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나 미처 십여 분도 지나지 않아서 아이가 방 안으로 다시 들어왔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리고 그 의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함은 순식간에 충격으로 뒤바뀌면서 지금까지 그가 오래도록 간직하고 있던 관념의 벽을 한꺼번에 허물어 버리는 사태를 유발시켰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“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게 돌이예요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"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아이의 손에는 길바닥에 굴러 다니는 작은 돌멩이들 몇 개가 쥐어져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충격적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갑자기 그는 지금까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자신이 너무 돌에 대해서 주관적인 생각을 가지고 있었다는 생각이 들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시야가 확 트여 버리는 듯한 느낌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아이의 앙징맞은 손아귀를 주시하면서 자신이 너무 오랜 세월에 걸쳐서 돌을 편애하고 있었음을 깨닫게 되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지금까지 그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전국을 헤매면서 찾아다닌 돌들은 아이의 말대로 진정한 돌이 아닐는지도 모른다는 생각이 들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지금 아이의 손에 쥐어져 있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저 평범한 잡석이야말로 진정한 돌일는지도 모른다는 생각이 들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는 비로소 이 세상 모든 돌들을 사랑할 수 있을 것 같았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한참동안 아이의 얼굴을 물끄러미 쳐다 보면서 그는 마침내 자신의 해우석을 찾아내었음을 알게 되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*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출전  이외수 엽편소설 연재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1998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년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월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27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일 이외수 누리집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( http://www.oisoo.co.kr/  )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08000" y="1125360"/>
            <a:ext cx="7056360" cy="4248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008000" y="1125360"/>
            <a:ext cx="7056360" cy="289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7488360" y="119700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Clos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1417680" y="1576440"/>
            <a:ext cx="547992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1100880" y="692280"/>
            <a:ext cx="166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1]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해우석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(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解 憂 石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)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이외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1245240" y="1125360"/>
            <a:ext cx="1665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[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읽기 자료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1]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해우석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(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解 憂 石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) </a:t>
            </a:r>
            <a:r>
              <a:rPr b="1" lang="ko-KR" sz="900" spc="-1" strike="noStrike">
                <a:solidFill>
                  <a:srgbClr val="333399"/>
                </a:solidFill>
                <a:latin typeface="돋움"/>
                <a:ea typeface="돋움"/>
              </a:rPr>
              <a:t>이외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7345440" y="5088240"/>
            <a:ext cx="657000" cy="231120"/>
          </a:xfrm>
          <a:prstGeom prst="rect">
            <a:avLst/>
          </a:prstGeom>
          <a:solidFill>
            <a:srgbClr val="ffcc99">
              <a:alpha val="4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3 / 3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008000" y="1413000"/>
            <a:ext cx="7056360" cy="37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①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시와 거시를 통해 본 해우석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먼저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미시적관점에서 ‘해우석’ 이야기를 분석해보자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 글의 주인공인 김평욱은 탐석광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허구한 날 땅바닥만 내려다보며 세월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보내는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한 집안의 가장으로 그 역할을 제대로 해 내지 못하는 인물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나 그의 직업이자 일거리인 ‘돌찾기’에 대한 열의는 대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하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 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아이가 탐석해 온 돌로 인하여 자신이 오랜 세월에 걸쳐서 돌을 편애하였음을 깨닫고 한참동안 아이의 얼굴을 바라보며 자신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찾아 헤매던 해우석을 비로소 찾았음을 알게 된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(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하생략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②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원인과 결과에 대한 해우석의 해석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전체적인 원인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김평석은 보편적인 생각을 가지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누군가에게 물어봐도 똑같이 대답할 것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(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하생략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③ 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현상과 본질로 본 해우석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현상을 보고 본질을 살피지 못한다면 그것은 의미가 없는 것과 마찬가지로 주인공이 그동안 수없이 찾아 모은 돌들은 진정한 의미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결여된 속세의 현상들이라고 할 수 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다가 아이를 통해 그동안 자신이 찾고 있었던 돌들 즉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사물에 대한 본질을 깨닫게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된 것이고 이를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'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자신의 해우석을 찾아내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'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라고 표현함으로써 현실의 현상들에 집착하지 않는 깨달음을 나타낸 것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러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깨달음을 얻기 전 주인공은 진정한 해우석의 의미 즉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본질을 깨닫지 못한 채 무의미한 사물들만을 찾고 있었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자신이 아는 것만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전부라고 믿는 것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자신의 눈에  보이는 것만이 중요하다고 믿는 현실 현상에 대한 집착에서 벗어나 본질에 대한 깨달음을 얻음으로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 소설의  의미를 찾을 수가 있는 것 같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하지만 더욱 중요한 것은 현상과 본질 중 어느 한 쪽에만 집중할 것이 아니라  현상과 본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양쪽에 모두 동등한 가치를 부여하여 인식해야 한다는 점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이 소설에서만 보더라도 주인공이 그동안 찾아 헤맸던 돌이나 아이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가져온 돌 즉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현상들에 대한 관찰과 분석이 없었다면 본질을 파악하기가  어려웠을 것이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러므로 분석한 여러 현상들의 연관 관계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차이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대조 등을 고려하여 본질을 효과적으로 파악할 수 있어야 하며 그 속에 담긴 궁극적인 의미를 깨달을 수 있어야 한다고 본다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04:08:48Z</dcterms:created>
  <dc:creator>rim</dc:creator>
  <dc:description/>
  <dc:language>en-US</dc:language>
  <cp:lastModifiedBy>MYCOM</cp:lastModifiedBy>
  <dcterms:modified xsi:type="dcterms:W3CDTF">2007-10-19T07:21:55Z</dcterms:modified>
  <cp:revision>2917</cp:revision>
  <dc:subject/>
  <dc:title>슬라이드 1</dc:title>
</cp:coreProperties>
</file>